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08D1-C2D7-4FDD-9D99-13B9D902B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42C-865C-4154-BD5D-C5E47611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468-3ED4-4B23-BC1E-0F5C4DEA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B2D-DFFE-4C7C-8F50-A538CCD2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628-0BE1-4033-8150-F3256823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AC3-663E-4009-A02D-9B840876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44B-416D-4D98-A1F3-D8F4C90D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F59-5501-4C0F-9527-55AAA4BF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215-F6EC-4C50-A92E-7B4A7295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2C4-D5A6-40FA-AA13-0A152D86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8C7-F9CE-49AD-92C2-5C821F1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94D-021B-40CB-957A-12472CB5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DC6-1E7D-4AE0-A1AC-820FC0E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7B5D-096B-4419-9494-189D9396E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 based on the conver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successful do you think the meeting 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 you think Serge and David understoo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meeting have been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572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second version of the same meeting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you be more _______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_____ i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what your _______ i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you _____ what I 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_________ what we’ve deci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3124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e               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04812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al Forms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1-6 with a-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igent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bligation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057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dvice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A pos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6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Advice about a pas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71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osi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Nega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038480"/>
            <a:ext cx="60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meeting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gh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ot alway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e best use of the teams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t the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y to make the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’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ste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am leade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d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verything they can to make sure they organize them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at is why compani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lear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how to run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course, one perso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have don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is before the team started working toge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048120" y="3200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d on an experience you have had in a work situation, write an email that tells your manager about a problem you have encountered and a possible s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0574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ils – dict.com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reet or acclaim enthusiastica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ke Out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elimination or winnowing out of some competing businesses, products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ated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ing or being after the customary, useful, or expected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ru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aise and contract (the shoulders), expressing indifference, disdain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ed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op or fell with or as if with an ax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remove ruthlessly or suddenly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ocial program that was axed to effectuate budget cut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repenta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exhibiting no remor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rry the can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ish and Canadian Slang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the responsibil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dic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udgment;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animou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the same opinions or views; being in complete harmony or acco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an markets extend global Rally on Citi new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52388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grammar.ccc.commnet.edu/grammar/sequence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905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43828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same-time action, use the presen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ager to go to the concert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Wallflo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5053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earlier action, use pas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ction to come, use the future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esiden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a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 ve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bi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nother completed past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n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go home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s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par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e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had 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resent Perfect or Past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4382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s gr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foot since 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ow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d 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asty before the sherif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ction happening at the same time, use the presen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 happy if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car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urely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as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is exam if 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tudie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future acti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i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ion of the independent clause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bab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s doors next summer if enrollm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uture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4382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resent tense or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d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 gradu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your experiences decide how people rate in the following are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meetings, people gener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Clear………………..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they don’t understand ………………..never ad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ck to the agenda ……………..do not stick to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648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ize decisions clearly…..…don’t summarize cle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952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direct or sometimes rude…are indirect and never r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41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interrupt ……………..never 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3-11T07:08:21Z</dcterms:modified>
  <cp:revision>33</cp:revision>
  <dc:subject/>
  <dc:title>Slide 1</dc:title>
</cp:coreProperties>
</file>