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C694-4B94-4215-BC82-8E8A0482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FE0-E77E-40D2-9078-31C4F2F6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3AC-51DE-4C30-B238-949BDCC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63B-F1AA-45D6-97A8-3D0FCD66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C64-86A9-42FB-8ADF-25D41C8F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9D0-E9DD-4694-9C46-EAA5D00B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C6D-8FC7-4865-B752-EFB2FFD9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524-2C6B-4439-8761-9CA04163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079-B2D2-4C3E-B5F5-76DC9D93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B55-93C0-4115-8FAB-1B4CBAC8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2A2-4ECE-43F2-BD09-1C216794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03D-7117-4399-B990-D13F2D59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5D5-0CB3-4791-8B6F-FABA6340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8E55-E75C-4199-AB5C-25AF0C55A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 based on the conver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successful do you think the meeting 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 you think Serge and David understoo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meeting have been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572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second version of the same meeting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 you be more _______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_____ i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what your _______ i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you _____ what I 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343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_________ what we’ve decid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3124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e               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343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304812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al Forms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1-6 with a-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ligent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Obligation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057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dvice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A pos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66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Advice about a pas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71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Posi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Nega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038480"/>
            <a:ext cx="609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meeting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gh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ot alway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e best use of the teams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t ther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y to make the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’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ste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am leade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d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verything they can to make sure they organize them prope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at is why companie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lear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how to run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course, one perso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have don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is before the team started working toge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3276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048120" y="3200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d on an experience you have had in a work situation, write an email that tells your manager about a problem you have encountered and a possible s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0574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 Exer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ils – dict.com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reet or acclaim enthusiastica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ke Out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elimination or winnowing out of some competing businesses, products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ated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ing or being after the customary, useful, or expected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ru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aise and contract (the shoulders), expressing indifference, disdain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ed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op or fell with or as if with an ax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remove ruthlessly or suddenly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ocial program that was axed to effectuate budget cut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repenta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exhibiting no remor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rry the can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ish and Canadian Slang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the responsibil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dic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judgment;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animou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 the same opinions or views; being in complete harmony or accor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ian markets extend global Rally on Citi new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52388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grammar.ccc.commnet.edu/grammar/sequence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905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43828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same-time action, use the presen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ager to go to the concert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Wallflow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5053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earlier action, use pas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ction to come, use the future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esident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ay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 ve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bi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nother completed past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an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go home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s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par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e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had 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resent Perfect or Past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43828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s gr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foot since 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ow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d 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asty before the sherif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ction happening at the same time, use the presen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b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 happy if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car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urely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as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is exam if 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tudie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future acti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rlier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ion of the independent clause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lle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bab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s doors next summer if enrollm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crea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uture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4382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resent tense or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d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 gradu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36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your experiences decide how people rate in the following are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meetings, people gener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Clear………………..are un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they don’t understand ………………..never ad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ck to the agenda ……………..do not stick to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648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ize decisions clearly…..…don’t summarize cle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952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direct or sometimes rude…are indirect and never r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410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ten interrupt ……………..never 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3-11T07:08:21Z</dcterms:modified>
  <cp:revision>33</cp:revision>
  <dc:subject/>
  <dc:title>Slide 1</dc:title>
</cp:coreProperties>
</file>