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4F67-A236-4A07-87AB-6C54176AC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768B-931A-4C8B-AE1A-445CD542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B19-0B43-4B66-930F-7D4BF0B9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FA17-985D-4B19-9CC2-90A7D49B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1DC-E5AC-4BDF-8771-F2B44980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C73-8132-454B-9616-3776043A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B50-8765-48BE-9F46-6D8200D6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B61-B6D3-4BA5-A0D2-77B4D6F4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21C-5A97-4E91-AF25-3BA98413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D5C-A108-49DB-97C6-E16EDB2C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17E-F234-4035-91C3-53E44EAF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D598-E2ED-4B60-BFB1-691D27BF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CA2-8EFB-4000-B164-B2F0AEE4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A1D2-8299-4F59-978C-40BC2165EE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the following questions based on the conver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successful do you think the meeting 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 you think Serge and David understoo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meeting have been more effec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5720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second version of the same meeting more effec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ld you be more ____________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 _____ is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, what your _______ is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you _____ what I _____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4343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_________ what we’ve decid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2362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3124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ay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e               m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43434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3048120" y="1371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al Forms 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 1-6 with a-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ligent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Obligation about a presen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2057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Advice about a presen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A poss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666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Advice about a pas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71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Positive de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2767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Negative de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4038480"/>
            <a:ext cx="609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owever, meeting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gh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not alway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he best use of the teams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et ther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way to make the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y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’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l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waste of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am leade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d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everything they can to make sure they organize them proper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at is why companie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lear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how to run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 course, one person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have don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his before the team started working toget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3276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3048120" y="3200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d on an experience you have had in a work situation, write an email that tells your manager about a problem you have encountered and a possible solu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20574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Mail Exer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447920"/>
            <a:ext cx="617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ails – dict.com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reet or acclaim enthusiastical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ake Out -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elimination or winnowing out of some competing businesses, products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lated 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ing or being after the customary, useful, or expected ti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ru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aise and contract (the shoulders), expressing indifference, disdain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xed – dict.com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hop or fell with or as if with an ax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form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remove ruthlessly or suddenly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social program that was axed to effectuate budget cut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repenta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or exhibiting no remor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rry the can – dict.com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itish and Canadian Slang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ake the responsibil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erdic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judgment; dec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animous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ing the same opinions or views; being in complete harmony or accor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ian markets extend global Rally on Citi new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3048120" y="152388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grammar.ccc.commnet.edu/grammar/sequence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19051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243828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same-time action, use the present t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ager to go to the concert because 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o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Wallflow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5053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earlier action, use past t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now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 I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a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right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4343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 period of time extending from some point in the past to the present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lie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y have elec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ht candid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55627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ction to come, use the future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esident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ay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 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will vet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bill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1523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057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nother completed past action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an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go home because 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s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y par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2004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n earlier action, use the pas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new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had ma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right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4343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 period of time extending from some point in the past to the present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lie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y have elec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ht candid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1523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Present Perfect or Past Perfec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243828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y purpose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s grow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foot since sh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row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d 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asty before the sherif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523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057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ction happening at the same time, use the presen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b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 happy if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y car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2004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n earlier action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urely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as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is exam if you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tudie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ar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34340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future actio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arlier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ction of the independent clause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lleg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bab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s doors next summer if enrollm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crea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1523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Future Perfec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24382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y purpose, use the present tense or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stud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have tak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y credits by the time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du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stud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have tak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ty credits by the time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ve gradu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3623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 your experiences decide how people rate in the following are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meetings, people generall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Clear………………..are uncl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t they don’t understand ………………..never ad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ick to the agenda ……………..do not stick to the a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4648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ize decisions clearly…..…don’t summarize clear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952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direct or sometimes rude…are indirect and never r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410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ten interrupt ……………..never 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3-11T07:08:21Z</dcterms:modified>
  <cp:revision>33</cp:revision>
  <dc:subject/>
  <dc:title>Slide 1</dc:title>
</cp:coreProperties>
</file>