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6A67E-744A-47E1-B6B5-9232D1CCE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k2 track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k2 track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k2 track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k2 track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2328-53E0-4EAF-A44D-EAB66872E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DA70-71C0-43EF-B625-EC5B1B1E0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0A04-282F-4811-9E1A-ACF550564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0753-2BF4-4F5D-9C82-5BE243CCE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58A7-E7B1-404F-8F38-6DE233036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3934-3E10-4118-B074-28929D14C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9D4D-E301-4468-AAE9-9380F93FD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7E93-F211-4517-9DF8-BEC82C084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FCDC-6C59-4EEF-B122-8386D5F73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96F5-6D62-4312-8D9B-A673D5BC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38C2-E28A-42DB-AEA9-2DA18FBE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A448-B7AC-4260-A33E-81C547F5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4FFDB-E2AC-480A-83C7-59FB408B81D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2280" y="228600"/>
            <a:ext cx="7086600" cy="4902120"/>
            <a:chOff x="152280" y="228600"/>
            <a:chExt cx="7086600" cy="490212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152280" y="22860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2666880" y="99036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"/>
          <p:cNvSpPr/>
          <p:nvPr/>
        </p:nvSpPr>
        <p:spPr>
          <a:xfrm>
            <a:off x="2971800" y="2136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ced Business Engl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350532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hn Silberste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29718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oup Y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71800" y="45324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 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"/>
          <p:cNvSpPr/>
          <p:nvPr/>
        </p:nvSpPr>
        <p:spPr>
          <a:xfrm>
            <a:off x="3048120" y="17524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eti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48120" y="12193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Busin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48120" y="23623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swer the following questions based on the convers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48120" y="31240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successful do you think the meeting i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48120" y="35053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much do you think Serge and David understoo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8120" y="3886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could the meeting have been more effectiv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45720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is the second version of the same meeting more effectiv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127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"/>
          <p:cNvSpPr/>
          <p:nvPr/>
        </p:nvSpPr>
        <p:spPr>
          <a:xfrm>
            <a:off x="3048120" y="17524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eti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8120" y="12193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Busin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48120" y="23623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uld you be more ____________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8120" y="31240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 _____ is…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48120" y="35053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, what your _______ is…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48120" y="3886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 you _____ what I _____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48120" y="43434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 we _________ what we’ve decide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105520" y="23623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ore specif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733920" y="31240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35053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ay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86200" y="3886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ee               me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62520" y="434340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o o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142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"/>
          <p:cNvSpPr/>
          <p:nvPr/>
        </p:nvSpPr>
        <p:spPr>
          <a:xfrm>
            <a:off x="3048120" y="1371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al Forms 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tch 1-6 with a-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48120" y="9907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lligent Busin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48120" y="17524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Obligation about a present situ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48120" y="20574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Advice about a present situ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48120" y="23623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A possib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48120" y="26668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 Advice about a past situ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48120" y="29718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. Positive dedu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048120" y="32767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. Negative dedu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048120" y="4038480"/>
            <a:ext cx="6095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66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However, meetings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ight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not always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e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the best use of the teams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et there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ust be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a way to make them 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y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an’t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all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e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a waste of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eam leader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hould do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everything they can to make sure they organize them proper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at is why companies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ust learn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how to run th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f course, one person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hould have done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this before the team started working togeth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086600" y="1752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086600" y="2057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086600" y="2362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086600" y="26668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086600" y="3048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086600" y="3276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2" name=""/>
          <p:cNvSpPr/>
          <p:nvPr/>
        </p:nvSpPr>
        <p:spPr>
          <a:xfrm>
            <a:off x="3048120" y="320040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sed on an experience you have had in a work situation, write an email that tells your manager about a problem you have encountered and a possible solu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205740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-Mail Exerci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56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" name=""/>
          <p:cNvSpPr/>
          <p:nvPr/>
        </p:nvSpPr>
        <p:spPr>
          <a:xfrm>
            <a:off x="2971800" y="1447920"/>
            <a:ext cx="61722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Hails – dict.com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reet or acclaim enthusiasticall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hake Out -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 elimination or winnowing out of some competing businesses, products, etc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elated -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ing or being after the customary, useful, or expected ti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hrug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raise and contract (the shoulders), expressing indifference, disdain, etc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xed – dict.com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chop or fell with or as if with an ax: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form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remove ruthlessly or suddenly: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 social program that was axed to effectuate budget cuts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Unrepentant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ving or exhibiting no remors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arry the can – dict.com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ritish and Canadian Slang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take the responsibilit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Verdict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judgment; deci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Unanimous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aring the same opinions or views; being in complete harmony or accord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cabulary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61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"/>
          <p:cNvSpPr/>
          <p:nvPr/>
        </p:nvSpPr>
        <p:spPr>
          <a:xfrm>
            <a:off x="3048120" y="17524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ian markets extend global Rally on Citi new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8120" y="12193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rrent Ev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66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" name=""/>
          <p:cNvSpPr/>
          <p:nvPr/>
        </p:nvSpPr>
        <p:spPr>
          <a:xfrm>
            <a:off x="3048120" y="1523880"/>
            <a:ext cx="609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tp://grammar.ccc.commnet.edu/grammar/sequence.h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8120" y="106668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view of Ten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48120" y="190512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Pres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2438280"/>
            <a:ext cx="60958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how same-time action, use the present ten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eager to go to the concert because I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lov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 Wallflowe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48120" y="3505320"/>
            <a:ext cx="609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show earlier action, use past ten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know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hat I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mad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he right choi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8120" y="4343400"/>
            <a:ext cx="60958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how a period of time extending from some point in the past to the present, use the present perfect ten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believ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at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ey have electe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right candid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5562720"/>
            <a:ext cx="609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show action to come, use the future ten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esident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say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hat he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will veto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he bill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76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"/>
          <p:cNvSpPr/>
          <p:nvPr/>
        </p:nvSpPr>
        <p:spPr>
          <a:xfrm>
            <a:off x="3048120" y="106668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view of Ten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15238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Pa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48120" y="2057400"/>
            <a:ext cx="60958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how another completed past action, use the past ten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wan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go home because I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iss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my paren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3200400"/>
            <a:ext cx="609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show an earlier action, use the past perfect ten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he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knew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he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had mad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he right choi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4343400"/>
            <a:ext cx="60958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how a period of time extending from some point in the past to the present, use the present perfect ten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believ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at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ey have electe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right candid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84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" name=""/>
          <p:cNvSpPr/>
          <p:nvPr/>
        </p:nvSpPr>
        <p:spPr>
          <a:xfrm>
            <a:off x="3048120" y="106668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view of Ten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15238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Present Perfect or Past Perfec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48120" y="2438280"/>
            <a:ext cx="6095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ny purpose, use the past ten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as grow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 foot since sh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urn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i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rowd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ad turn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asty before the sheriff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eturn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90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"/>
          <p:cNvSpPr/>
          <p:nvPr/>
        </p:nvSpPr>
        <p:spPr>
          <a:xfrm>
            <a:off x="3048120" y="106668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view of Ten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15238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Fu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48120" y="2057400"/>
            <a:ext cx="60958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how action happening at the same time, use the present ten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will b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o happy if the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my car toda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48120" y="3200400"/>
            <a:ext cx="609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show an earlier action, use the past ten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ou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wil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urely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pas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his exam if you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studie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har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8120" y="4343400"/>
            <a:ext cx="60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how future action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arlier th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 action of the independent clause, use the present perfect ten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olleg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wil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robabl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los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ts doors next summer if enrollments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av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ot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creas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"/>
          <p:cNvSpPr/>
          <p:nvPr/>
        </p:nvSpPr>
        <p:spPr>
          <a:xfrm>
            <a:off x="3048120" y="106668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view of Ten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8120" y="15238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Future Perfec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8120" y="2438280"/>
            <a:ext cx="6095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ny purpose, use the present tense or present perfect ten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st students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will have take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y credits by the time the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gradua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st students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will have take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ixty credits by the time the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ave gradua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"/>
          <p:cNvSpPr/>
          <p:nvPr/>
        </p:nvSpPr>
        <p:spPr>
          <a:xfrm>
            <a:off x="3048120" y="17524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eti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8120" y="12193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Busin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8120" y="23623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sed on your experiences decide how people rate in the following are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31240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meetings, people generall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48120" y="35053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e Clear………………..are uncle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3886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mit they don’t understand ………………..never adm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8120" y="42670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ick to the agenda ……………..do not stick to the age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8120" y="46483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mmarize decisions clearly…..…don’t summarize clear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48120" y="49528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e direct or sometimes rude…are indirect and never ru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54100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ten interrupt ……………..never interru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0:23:48Z</dcterms:created>
  <dc:creator>johnsilb</dc:creator>
  <dc:description/>
  <dc:language>en-US</dc:language>
  <cp:lastModifiedBy>johnsilb</cp:lastModifiedBy>
  <dcterms:modified xsi:type="dcterms:W3CDTF">2009-03-11T07:08:21Z</dcterms:modified>
  <cp:revision>33</cp:revision>
  <dc:subject/>
  <dc:title>Slide 1</dc:title>
</cp:coreProperties>
</file>