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E40-3ADB-4FC4-ACA3-405B31E4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753-BC7C-4986-9CD8-4823D909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6BD-4507-4113-9DDE-80C8EDCF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543-48C5-40F8-864E-18B7D204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05C-F8AD-400C-BE6F-417D49B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872-9E66-48A7-B20E-0548F24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9F9-B3DD-4BE3-BEBB-B473937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E76-7766-4BCB-8FA8-C18B895D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741-CF4D-4388-BEF5-DD71027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0B4-2C37-4FB2-97BD-BFD02FD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9A-0129-48DD-B27D-0E4FD589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511-8B52-4389-80F5-5290D3CE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3A66-72A1-431E-A1EC-0E9D1BFD3D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5 – February 18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/>
          <p:nvPr/>
        </p:nvSpPr>
        <p:spPr>
          <a:xfrm>
            <a:off x="3048120" y="1219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209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ain the topic for each passage and 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2767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Oil and PP have announced they are going to merge. It will be the biggest eve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oil indus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27672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ghtly Telecom is to split into two and demerge its fixed-line and mobile businesses as part of an on-going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im of the demerger is to cut debt by £10 bill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ents de France, the French building group, is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d Square Industries of the UK for €3.1 billion. This is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iendly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s RSI are likely to welcome it and agree to it. But the take comes only a year after RSI rejected an unwante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ostile b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20040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ott Bank is doing badly and may become the victim of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re were rumors of a possible takeover by Bullion, but it says it won’t play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ite k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Abbot by coming to its defense. This leaves Abbot exposed to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quisi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it may be prey to a big international bank. Abbot does have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son p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ever, in the form of a special class of shares that will be very expensive for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eda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bu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048120" y="914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iness Vocabulary in Use – Mergers and Take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9051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e the highlighted word(s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708280"/>
            <a:ext cx="6095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w-price general retail, Cotton Stores acquires Bestco supermarkets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rsif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food retai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90’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Cotton makes a series of acquisitions of retail and non-retail businesses and becomes th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ent 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a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glomer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other businesses as i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ubsidiar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Shareholders complain that Cotton Group i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focu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hey demand that its CDEO shoul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sp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non-retail companies, which they describe a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on-core ass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reinvest the money in its main,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e a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retailing. They say that 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vest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structur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necessary for future growth and profit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1447920"/>
            <a:ext cx="61722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tudy or ruminate; ponder. to think about carefu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ningfully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significant manner; so as to be significan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ked – dict.com: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ive an enthusiastic response. 2. To set in motion; activate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incident sparked a controvers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kin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arch curiously; pry (often fol. by around or abou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idation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t or instance of consolidating; the state of being consolidated; unification: consolidation of compani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’s Def.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ct of bringing together or unifying two more things – in our context, compan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971800" y="198108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bbled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wallow or eat hastily or hungrily in large pieces; gulp.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eize upon eagerly (often fol. by up)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fter being gone for so long, they gobbled up all the local new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food, service, etc., as for a party or wedding: to cater for a banquet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provide or supply what is desired or required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o cater to popular demand; to cater to an invali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great in number, quantity, amount, etc.: vast sums of mone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ds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position of anything surrounded by other things or parts, or occurring in the middle of a period of time, course of action, etc. (usually prec. by the): a familiar face in the midst of the crow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971800" y="1981080"/>
            <a:ext cx="61722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eavor: dict.com: –(used without object) 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exert oneself to do or effect something; make an effort; strive: We must constantly endeavor if we are to succeed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used with object) 2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attempt; try: He endeavors to keep things neat in his apart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el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 new kind; different from anything seen or known before: a novel ide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kl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undertake to handle, master, solve, etc.: to tackle a difficult probl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 put in or on something for conveyance or transportation; freight; cargo: The truck carried a load of watermel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itches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 malfunction, mishap, or technical problem; a sna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230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971800" y="1447920"/>
            <a:ext cx="6172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autionary – dict.com: 1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, pertaining to, or characterized by precaution: precautionary measures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xpressing or advising precaution: precautionary warnings against possible tornado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ated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ake easier or less diffic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te of activity, progress, growth, performance, etc.; tem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e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mention or bring forward as support, illustration, or proof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ted several instances of insubordinate behavior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igence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. the failure to exercise that degree of care that, in the circumstances, the law requires for the protection of other per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ation or restric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3048120" y="1981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l majors mull mega-mergers as they eye min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is the new middle class develop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article, how is middle class defin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200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people who are middle class behav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36576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re Democracy and the Middle Class link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04812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rrangement or juxtaposition of words or other elements, especially those that commonly co-occur, as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ancid butter, bosom buddy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ad seriou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project management sentences using the correct form of the verbs from the list which collocate with the nouns 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n some sentences, more than one verb is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39625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   reach   establish   achieve   meet   stick to   set   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343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jor risks usually involved in managing a project like T5 (para 6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3048120" y="990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iss   reach   establish   achieve   meet   stick to   set   f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less the team really pulls together, we’ll never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eadli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Malaysian or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1676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209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has been difficult so far. However, once we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xt mileston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evething should get easi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8195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make sense of our tasks, we need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timefram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ithin which we can all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sta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nk is such an unreasonable boss: he always 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overseas sales too hig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886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ratulations! We’ve _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r targe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quality this year due to all your hard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chie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49568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’ve been vague about the schedule for too long. It’s time we _____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d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definite and move 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257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end, I 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 deadli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my accountancy project, but it didn’t matter: everybody else was late to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’s excellent at getting things done on time, but she finds it impossible to _________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r budge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ick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3048120" y="1219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Vocabulary in Use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343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more than 50% of the shares of a company are owned by one investor, giving them control over how it is r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in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1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an investor owns less than 50% of the shares of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429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sta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inter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ajority ho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75248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ke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terest in a compan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olding in a compan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743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hares that one investor has in a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2-18T07:22:59Z</dcterms:modified>
  <cp:revision>19</cp:revision>
  <dc:subject/>
  <dc:title>Slide 1</dc:title>
</cp:coreProperties>
</file>