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D48-5945-4762-8EA9-5102EE4A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ABC-B66B-4249-8986-80F6EFAE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FF8-017B-4138-B05E-DDBE3056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E2C-8BA4-413B-A789-A255F7FF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EFC-E472-4F11-A82C-C832B18F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F9A-18AE-4815-81C1-2A1E39E2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5E5-5C7B-40B3-9695-FCA177C3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85F-D4CC-42DB-9B71-DA8BD3AE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F8F-7BEA-49AA-9417-03D99597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5AC-ADE8-446E-B85B-530C6718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9A4-3F3C-4AAF-B6B9-F51F528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3A8-E339-4484-8BC4-200D9046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0B2A-7BF2-4483-94BD-DA6BF5F438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 – February 18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3048120" y="1219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ain the topic for each passage and 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76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Oil and PP have announced they are going to merge. It will be the biggest eve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oil indus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27672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ghtly Telecom is to split into two and demerge its fixed-line and mobile businesses as part of an on-going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im of the demerger is to cut debt by £10 bill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nts de France, the French building group, is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d Square Industries of the UK for €3.1 billion. This is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iendly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s RSI are likely to welcome it and agree to it. But the take comes only a year after RSI rejected an unwant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stile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2004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ott Bank is doing badly and may become the victim of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re were rumors of a possible takeover by Bullion, but it says it won’t play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ite k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Abbot by coming to its defense. This leaves Abbot exposed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it may be prey to a big international bank. Abbot does have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ison p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ever, in the form of a special class of shares that will be very expensive for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bu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048120" y="9144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905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708280"/>
            <a:ext cx="6095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w-price general retail, Cotton Stores acquires Bestco supermarkets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rsif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food retai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90’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Cotton makes a series of acquisitions of retail and non-retail businesses and become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ent 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glomer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other businesses as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sidia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Shareholders complain that Cotton Group i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focu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y demand that its CDEO shoul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non-retail companies, which they describe a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n-core ass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invest the money in its main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e a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retailing. They say that 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st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necessary for future growth and profit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udy or ruminate; ponder. to think about carefu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full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significant manner; so as to be significa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– dict.com: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ive an enthusiastic response. 2. To set in motion; activat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incident sparked a controvers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k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arch curiously; pry (often fol. by around or abou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idation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 or instance of consolidating; the state of being consolidated; unification: consolidation of compani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.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ct of bringing together or unifying two more things – in our context,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bbled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wallow or eat hastily or hungrily in large pieces; gulp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ize upon eagerly (often fol. by up)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fter being gone for so long, they gobbled up all the local new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food, service, etc., as for a party or wedding: to cater for a banque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or supply what is desired or require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cater to popular demand; to cater to an invali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great in number, quantity, amount, etc.: vast sums of mone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position of anything surrounded by other things or parts, or occurring in the middle of a period of time, course of action, etc. (usually prec. by the): a familiar face in the midst of the crow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971800" y="1981080"/>
            <a:ext cx="61722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eavor: dict.com: –(used without object)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xert oneself to do or effect something; make an effort; strive: We must constantly endeavor if we are to succe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used with object) 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ttempt; try: He endeavors to keep things neat in his apart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 new kind; different from anything seen or known before: a novel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k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take to handle, master, solve, etc.: to tackle a difficult probl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put in or on something for conveyance or transportation; freight; cargo: The truck carried a load of watermel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itches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 malfunction, mishap, or technical problem; a sna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971800" y="1447920"/>
            <a:ext cx="6172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utionary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, pertaining to, or characterized by precaution: precautionary measur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xpressing or advising precaution: precautionary warnings against possible torna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t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ake easier or less diffic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activity, progress, growth, performance, etc.; tem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e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ention or bring forward as support, illustration, or proof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ted several instances of insubordinate behavio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igen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. the failure to exercise that degree of care that, in the circumstances, the law requires for the protection of other per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ation or restric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the new middle class develop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article, how is middle class defin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people who are middle class behav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re Democracy and the Middle Class link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Vocabulary in Use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343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more than 50% of the shares of a company are owned by one investor, giving them control over how it is r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1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an investor owns less than 50% of the shares of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8T07:22:59Z</dcterms:modified>
  <cp:revision>19</cp:revision>
  <dc:subject/>
  <dc:title>Slide 1</dc:title>
</cp:coreProperties>
</file>