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346-AAFF-44D7-A639-EF3DA0A8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5FC-955B-485B-A447-AF08FD0A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5AB-AED5-487D-8C63-3407C805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28F-14BD-4B4F-ADF8-89401021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58F-700D-40F7-907E-E4E351ED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E400-1C48-4156-9B63-25877C0B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593-50FE-4DCC-952A-2F0378C2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4B0-38B0-4A05-8D61-07108D06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91C-11CB-4FA4-85BC-840C1021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86F-BCCB-4C04-8DC0-726B5FC3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656-CA67-4667-AE50-CA8C21F4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C4D-4CD7-4FE5-B26A-63CD1820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3304-AA22-4A42-B396-B7F5DE724D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 – February 18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3048120" y="1219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ain the topic for each passage and 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76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Oil and PP have announced they are going to merge. It will be the biggest eve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oil indus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27672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ghtly Telecom is to split into two and demerge its fixed-line and mobile businesses as part of an on-going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im of the demerger is to cut debt by £10 bill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ents de France, the French building group, is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d Square Industries of the UK for €3.1 billion. This is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iendly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s RSI are likely to welcome it and agree to it. But the take comes only a year after RSI rejected an unwant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stile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2004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ott Bank is doing badly and may become the victim of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re were rumors of a possible takeover by Bullion, but it says it won’t play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ite k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Abbot by coming to its defense. This leaves Abbot exposed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it may be prey to a big international bank. Abbot does have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ison p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ever, in the form of a special class of shares that will be very expensive for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bu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048120" y="9144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905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708280"/>
            <a:ext cx="6095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w-price general retail, Cotton Stores acquires Bestco supermarkets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rsif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food retai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90’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Cotton makes a series of acquisitions of retail and non-retail businesses and becomes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ent 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glomer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other businesses as i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sidiar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Shareholders complain that Cotton Group i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focu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y demand that its CDEO shoul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non-retail companies, which they describe a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n-core ass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reinvest the money in its main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re a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retailing. They say that 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st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necessary for future growth and profit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udy or ruminate; ponder. to think about carefu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ingfull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 significant manner; so as to be significa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ked – dict.com: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ive an enthusiastic response. 2. To set in motion; activat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incident sparked a controvers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k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arch curiously; pry (often fol. by around or abou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olidation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 or instance of consolidating; the state of being consolidated; unification: consolidation of compani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.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ct of bringing together or unifying two more things – in our context,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bbled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wallow or eat hastily or hungrily in large pieces; gulp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ize upon eagerly (often fol. by up)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fter being gone for so long, they gobbled up all the local new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food, service, etc., as for a party or wedding: to cater for a banque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or supply what is desired or require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cater to popular demand; to cater to an invali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great in number, quantity, amount, etc.: vast sums of mone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d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position of anything surrounded by other things or parts, or occurring in the middle of a period of time, course of action, etc. (usually prec. by the): a familiar face in the midst of the crow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971800" y="1981080"/>
            <a:ext cx="61722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eavor: dict.com: –(used without object)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xert oneself to do or effect something; make an effort; strive: We must constantly endeavor if we are to succe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used with object) 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ttempt; try: He endeavors to keep things neat in his apart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 new kind; different from anything seen or known before: a novel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k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take to handle, master, solve, etc.: to tackle a difficult probl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put in or on something for conveyance or transportation; freight; cargo: The truck carried a load of watermel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itches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 malfunction, mishap, or technical problem; a sna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971800" y="1447920"/>
            <a:ext cx="6172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utionary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, pertaining to, or characterized by precaution: precautionary measur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xpressing or advising precaution: precautionary warnings against possible tornado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t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ake easier or less difficu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activity, progress, growth, performance, etc.; tem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e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ention or bring forward as support, illustration, or proof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ted several instances of insubordinate behavio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igen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. the failure to exercise that degree of care that, in the circumstances, the law requires for the protection of other per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ation or restric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the new middle class develop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article, how is middle class defin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people who are middle class behav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re Democracy and the Middle Class link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048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Vocabulary in Use 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3434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more than 50% of the shares of a company are owned by one investor, giving them control over how it is r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81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1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an investor owns less than 50% of the shares of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8T07:22:59Z</dcterms:modified>
  <cp:revision>19</cp:revision>
  <dc:subject/>
  <dc:title>Slide 1</dc:title>
</cp:coreProperties>
</file>