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6E0-5B34-4AB1-BE83-594BA27C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139-EC78-4324-9809-D80307A0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D66-8936-4CF6-AD67-AF32FEF6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781-38F1-4A4D-AA87-B392DB74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988-6173-48C8-A9C5-A3E8EAF0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C7C-9A4D-40D2-B75C-96095A4B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52F-C35F-4FB9-BDF9-50EA5EC8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75A-CDC4-4EAB-93CE-482B279D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B9D-53B8-46B3-8CEB-6E9E8C33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FBE-3E3E-4318-B601-7E19B778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B8F-EC11-4A5B-85A4-DCA001F3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FC9-4300-4A12-B27A-04424B86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8CE4-9788-479D-8045-279BC863B5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4 – February 16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id-dictionary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middle of; surrounded by; among: to stand weeping amid the ruin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; in or throughout the course o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lesalers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ale of goods in quantity, as to retailers or jobbers, for resale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ggregator manufacturer’s products for sale/distribution to retail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unged-dictionary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st or thrust forcibly or suddenly into something, as a liquid, a penetrable substance, a place, etc.; immerse; submerge: to plunge a dagger into one's hear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ring suddenly or forcibly into some condition, situation, etc.: to plunge a country into war; to pull a switch and plunge a house into darkn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pi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cut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piles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pply stored for future use, usually carefully accrued and maintain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ini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supply, such as inventory that is being stored for future use. It can also be used to connote overstocked inventory that will not be easily mo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cutive-dictionary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one another in uninterrupted succession or order; successive: six consecutive numbers, such as 5, 6, 7, 8, 9, 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example of an oil maj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are oil minor attractive acquistions for the majo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equity de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re the biggest IOC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ight be some obstacles to these merg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up and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514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has the T5 agreement facilitated the management of the T5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ajor constraint to construction of the pro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581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id BAA take on all the risk for conflicts during the construction of the termi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4191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this point to other core competencies for BA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up and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017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incipal problem related to building airpo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4382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ricky building techni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eed to interface with other transport li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omplex electronic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276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A’s options for managing the projec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3809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naging the project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Outsourcing to a project management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4956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pecific constraints inposed by the nature of the s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4876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mited access to the building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mit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91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lays/Glitches – causing increased co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gal problems and hag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ork shut downs; therefore, time runs sh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6T07:29:02Z</dcterms:modified>
  <cp:revision>15</cp:revision>
  <dc:subject/>
  <dc:title>Slide 1</dc:title>
</cp:coreProperties>
</file>