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CFB-C158-487F-A150-690E853A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08D-6DC0-4D2D-8E9D-16E8B433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99C-9BFF-4603-9212-3EB36854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0EF-BFF9-4FBE-AFED-3232029E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16B-5AF3-4786-B000-91D872AD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F01-70A7-461F-A5DD-961DC97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62C-B5AD-4D98-97C0-C711FE9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88D-B0B0-488E-926D-40824F4A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0AF-E760-4A8E-9334-6AF897CD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719-D58E-48B3-B65C-9DBB5D2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D73-1B2E-43CF-B000-3815DAF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81C-2658-49E3-8109-84AAD2EF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ADB1-4BF6-4B27-9FAD-5F44DC8727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 – February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of; surrounded by; among: to stand weeping amid the rui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; in or throughout the course o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r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ale of goods in quantity, as to retailers or jobbers, for resal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ggregator manufacturer’s products for sale/distribution to retail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nge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r thrust forcibly or suddenly into something, as a liquid, a penetrable substance, a place, etc.; immerse; submerge: to plunge a dagger into one's hear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ring suddenly or forcibly into some condition, situation, etc.: to plunge a country into war; to pull a switch and plunge a house into dark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pply stored for future use, usually carefully accrued and maintain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upply, such as inventory that is being stored for future use. It can also be used to connote overstocked inventory that will not be easily mo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one another in uninterrupted succession or order; successive: six consecutive numbers, such as 5, 6, 7, 8, 9,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xample of an oil maj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are oil minor attractive acquistions for the majo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quity d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biggest IO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ight be some obstacles to these merg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has the T5 agreement facilitated the management of the T5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ajor constraint to construction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5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id BAA take on all the risk for conflicts during the construction of the termi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191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is point to other core competencies for BA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017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ncipal problem related to building airpo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4382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icky building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ed to interface with other transport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mplex electronic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A’s options for managing the proje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naging the project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utsourcing to a project management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95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pecific constraints inposed by the nature of the s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87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access to the building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6T07:29:02Z</dcterms:modified>
  <cp:revision>15</cp:revision>
  <dc:subject/>
  <dc:title>Slide 1</dc:title>
</cp:coreProperties>
</file>