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980-38A6-401E-AEFF-003E313D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74D-AA70-494B-A7AB-2F66ABE1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1258-0F98-4EEE-A639-6FDCB2C7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E98-2ADC-47B8-A50A-5CF8917A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3CC7-8870-4735-A7FD-548A864E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51B-338B-4E2E-AD1F-67C8291A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6433-0EBD-4708-A689-23BF47DA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C1B-76F3-4CC2-96D7-88C62E92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037A-2941-4EDF-919E-9746BD70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C2B-A054-42E4-AD31-E981E76F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3A35-CE23-4D2E-BF80-BDB35C9E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F4A-889E-402D-B5EF-C94AAA2F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803C-4ACC-4D30-9581-BDA2BCCBCF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 – February 16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144792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id-dictionary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middle of; surrounded by; among: to stand weeping amid the ruin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; in or throughout the course o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lesalers-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ale of goods in quantity, as to retailers or jobbers, for resale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aggregator manufacturer’s products for sale/distribution to retail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unged-dictionary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st or thrust forcibly or suddenly into something, as a liquid, a penetrable substance, a place, etc.; immerse; submerge: to plunge a dagger into one's heart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ring suddenly or forcibly into some condition, situation, etc.: to plunge a country into war; to pull a switch and plunge a house into darkn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pi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ecut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971800" y="1981080"/>
            <a:ext cx="61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piles-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upply stored for future use, usually carefully accrued and maintained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supply, such as inventory that is being stored for future use. It can also be used to connote overstocked inventory that will not be easily mo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ecutive-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ing one another in uninterrupted succession or order; successive: six consecutive numbers, such as 5, 6, 7, 8, 9, 1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l majors mull mega-mergers as they eye min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example of an oil maj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are oil minor attractive acquistions for the majo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equity de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the biggest IOC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ight be some obstacles to these merg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3048120" y="1981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, up and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514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has the T5 agreement facilitated the management of the T5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ajor constraint to construction of the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581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id BAA take on all the risk for conflicts during the construction of the termi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41911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this point to other core competencies for BA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, up and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0178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incipal problem related to building airpo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4382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ricky building techni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eed to interface with other transport lin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omplex electronic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2767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A’s options for managing the projec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38098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anaging the project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Outsourcing to a project management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4956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pecific constraints inposed by the nature of the s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4876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imited access to the building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imited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1008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lays/Glitches – causing increased co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gal problems and hag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ork shut downs; therefore, time runs sh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arrangement or juxtaposition of words or other elements, especially those that commonly co-occur, a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ncid butter, bosom buddy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ad seriou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743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the project management sentences using the correct form of the verbs from the list which collocate with the nouns 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In some sentences, more than one verb i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962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343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lays/Glitches – causing increased co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gal problems and hag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ork shut downs; therefore, time runs sh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lays/Glitches – causing increased co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gal problems and hag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ork shut downs; therefore, time runs sh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048120" y="990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1676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less the team really pulls together, we’ll never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eadli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Malaysian or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2209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roject has been difficult so far. However, once we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xt milesto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evething should get easi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53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819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ake sense of our tasks, we need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timefra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ithin which we can all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352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nk is such an unreasonable boss: he always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overseas sales too hig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388620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gratulations! We’ve _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quality this year due to all your hard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4495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’ve been vague about the schedule for too long. It’s time we _____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d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definite and move 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the end, I 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 deadli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my accountancy project, but it didn’t matter: everybody else was late to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6T07:29:02Z</dcterms:modified>
  <cp:revision>15</cp:revision>
  <dc:subject/>
  <dc:title>Slide 1</dc:title>
</cp:coreProperties>
</file>