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C57-487B-4955-A4FF-146B17C9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7D0-9D1F-4BBE-AD63-F9937281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DB7-2C43-4DF2-9839-25CA57D3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442-BBBC-4E8B-ACBA-8FF7E195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3B3-39E4-4673-A360-08811E67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427-0753-42EF-A2EC-DACA6107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26D-3C79-4D42-B6BE-D254C4FF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C0D-B4A5-4FC3-AD88-0F4AA37D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C17-A354-4551-9AC7-BE114426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2FD-C740-446B-80F5-2AD2C583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919-CD44-47EC-A72E-C76F6197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FC2-3451-41D7-BA49-899D24F8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0BF1-73D9-4FCA-B88A-0ECE10287B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2971800" y="1981080"/>
            <a:ext cx="61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sperous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or characterized by financial success or good fortune; flourishing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financial suc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igh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dition, state, or situation, esp. an unfavorable or unfortunate one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tate of being that is usually characterized by unfavorable condi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alanche: dictionary.com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overwhelm with an extremely large amount of anything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 suddenly overwhelmed with some thing (such as snow) or event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Wednesday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2971800" y="198108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log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eserve or accumulation, as of stock, work, or business: a backlog of business orders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k that is left undone due to a state of affairs where there is more work than manpower available to do the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e a dent: 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cause a person to take heed; make an impression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art clearing a backlo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s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lesale Inventories off by most in 17 ye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would wholesalers want to cut back inventories now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this mean for manufactur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inventory tur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measuring Inventory turns importa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GD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05000" y="4800600"/>
            <a:ext cx="60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the measure of an economy adopted by the United States in 1991; the total market values of goods and services produced by workers and capital within a nation's borders during a given period (usually 1 year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0560" y="6095880"/>
            <a:ext cx="57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ould reduced inventories negatively effect GD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businesses are the two people 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514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they have in comm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they help each oth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3048120" y="1981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981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1905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7560" y="1981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438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of the following tasks would be included in each of the phases abo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2080" y="3124080"/>
            <a:ext cx="304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the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te the risk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cast co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Project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 th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unch the pilot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tain status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idate th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e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e project over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74720" y="3124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74720" y="33526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4720" y="3657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720" y="3886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720" y="41911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5080" y="44956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5080" y="48006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cute/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436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4720" y="5334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74360" y="5638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048120" y="1981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 Phases does she consider the most importa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t 2 Listening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590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itiating and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3124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wo questions should project managers ask at the star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733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the project feasible? Will it add valu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4114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the tasks above that she men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419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- prepare project overview, 9 – allocate resources, 3-forecast costs, 2-evaluate risk factor, 4-select the proj. team, 5-deliver the pro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0T21:58:11Z</dcterms:modified>
  <cp:revision>12</cp:revision>
  <dc:subject/>
  <dc:title>Slide 1</dc:title>
</cp:coreProperties>
</file>