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C00E-3C1F-464F-9BCE-824429CCF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D2E3-5701-4972-AEE5-85660B2C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B6C4-D226-45F5-BE91-E83534E7F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F7AF-D966-4079-94ED-9FDF43FE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BCCD-50C4-42ED-9579-DD7CA2D0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C70D-2EBB-4725-8AAB-90B1671F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9472-0617-409C-B439-5187CB45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D1A6-14AF-4CCA-A536-07F8728B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03EC-BA40-4FDD-9E19-6C0F0AE7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163E-B37A-4716-A76B-940120A7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7148-6119-4E5B-8C9C-A08F8C1B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1B64-4373-4F27-AF94-EFD93132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01F5-81F4-4FF6-A358-CB84BC2CFC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3505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"/>
          <p:cNvSpPr/>
          <p:nvPr/>
        </p:nvSpPr>
        <p:spPr>
          <a:xfrm>
            <a:off x="2971800" y="1981080"/>
            <a:ext cx="6172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Word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sperous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ving or characterized by financial success or good fortune; flourishing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ving financial suc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ight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ondition, state, or situation, esp. an unfavorable or unfortunate one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tate of being that is usually characterized by unfavorable condi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valanche: dictionary.com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overwhelm with an extremely large amount of anything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be suddenly overwhelmed with some thing (such as snow) or event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of Wednesday’s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>
            <a:off x="2971800" y="198108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Word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cklog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reserve or accumulation, as of stock, work, or business: a backlog of business orders.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rk that is left undone due to a state of affairs where there is more work than manpower available to do the wor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ke a dent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cause a person to take heed; make an impression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tart clearing a backlo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dnes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’s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3048120" y="1981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olesale Inventories off by most in 17 yea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would wholesalers want to cut back inventories now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es this mean for manufacture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32004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n inventory tur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6576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is measuring Inventory turns importa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4267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GD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05000" y="4800600"/>
            <a:ext cx="60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D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the measure of an economy adopted by the United States in 1991; the total market values of goods and services produced by workers and capital within a nation's borders during a given period (usually 1 year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0560" y="6095880"/>
            <a:ext cx="57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would reduced inventories negatively effect GD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"/>
          <p:cNvSpPr/>
          <p:nvPr/>
        </p:nvSpPr>
        <p:spPr>
          <a:xfrm>
            <a:off x="3048120" y="1981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businesses are the two people 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st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25146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they have in comm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3124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ight they help each oth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"/>
          <p:cNvSpPr/>
          <p:nvPr/>
        </p:nvSpPr>
        <p:spPr>
          <a:xfrm>
            <a:off x="3048120" y="19810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ject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981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38680" y="1981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ecute/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19051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19051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91520" y="19051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27560" y="19810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4382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of the following tasks would be included in each of the phases abov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52080" y="3124080"/>
            <a:ext cx="3045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 the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te the risk fa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ecast co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the Project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 the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unch the pilot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tain status repo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idate the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ocate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pare project overvi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74720" y="31240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74720" y="33526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4720" y="36576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74720" y="38862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74720" y="41911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75080" y="449568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ecute/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75080" y="480060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ecute/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74360" y="50292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74720" y="53341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74360" y="56386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3048120" y="19810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of the Phases does she consider the most importa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t 2 Listening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2590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itiating and plan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8120" y="31240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two questions should project managers ask at the star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3733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the project feasible? Will it add valu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41148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fy the tasks above that she men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44197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- prepare project overview, 9 – allocate resources, 3-forecast costs, 2-evaluate risk factor, 4-select the proj. team, 5-deliver the proj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2-10T21:58:11Z</dcterms:modified>
  <cp:revision>12</cp:revision>
  <dc:subject/>
  <dc:title>Slide 1</dc:title>
</cp:coreProperties>
</file>