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AF0-DA40-4B93-89BF-51A1D5E7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31A-D426-42E9-9919-D0D8059F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4B6F-7D77-4AEF-85E3-34FA6FB7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13F-957B-422A-994E-652C1843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0875-46B2-4091-9F9B-D20DFD17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3A4-ED34-4525-A5B4-A3E09962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7EC-67C4-4704-82BE-3CA3608B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970-1B63-4155-8D9B-0CF581C4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3C2-0F3F-4C93-AA3E-BCE5F5BC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433-0A9A-4E77-8988-375D0F6B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0CD1-8E58-49FF-800D-E0316CFB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DC1-303A-4B8E-8092-00BB9CEC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A357-8670-4DBE-8083-9E48BBC0E1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971800" y="1981080"/>
            <a:ext cx="6172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sperous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ing or characterized by financial success or good fortune; flourishing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ing financial suc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igh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ndition, state, or situation, esp. an unfavorable or unfortunate one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tate of being that is usually characterized by unfavorable condi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alanche: dictionary.com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overwhelm with an extremely large amount of anything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e suddenly overwhelmed with some thing (such as snow) or event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Wednesday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2971800" y="198108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log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eserve or accumulation, as of stock, work, or business: a backlog of business orders.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rk that is left undone due to a state of affairs where there is more work than manpower available to do the 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ke a den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cause a person to take heed; make an impression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tart clearing a backlo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lesale Inventories off by most in 17 ye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would wholesalers want to cut back inventories now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this mean for manufactur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inventory tur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measuring Inventory turns importa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GD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05000" y="4800600"/>
            <a:ext cx="60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D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the measure of an economy adopted by the United States in 1991; the total market values of goods and services produced by workers and capital within a nation's borders during a given period (usually 1 year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0560" y="6095880"/>
            <a:ext cx="57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would reduced inventories negatively effect GD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businesses are the two people 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s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514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they have in comm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they help each oth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3048120" y="1981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ct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981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198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cute/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1905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1905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91520" y="1905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7560" y="1981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438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of the following tasks would be included in each of the phases abo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2080" y="3124080"/>
            <a:ext cx="304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the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e the risk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 co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the Project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 the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unch the pilot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tain status re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idate the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cate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are project over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74720" y="3124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74720" y="33526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4720" y="36576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720" y="3886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4720" y="41911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5080" y="44956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cute/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75080" y="48006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cute/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4360" y="50292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4720" y="53341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74360" y="5638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048120" y="1981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of the Phases does she consider the most importa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t 2 Listening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590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itiating and pla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3124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wo questions should project managers ask at the star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the project feasible? Will it add valu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41148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y the tasks above that she men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44197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- prepare project overview, 9 – allocate resources, 3-forecast costs, 2-evaluate risk factor, 4-select the proj. team, 5-deliver the pro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0T21:58:11Z</dcterms:modified>
  <cp:revision>12</cp:revision>
  <dc:subject/>
  <dc:title>Slide 1</dc:title>
</cp:coreProperties>
</file>