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C63-3D65-4714-B7D8-9EFDDA8C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C04-112D-4E5D-BAEA-CAF1FED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844-BF6B-4A8F-9CEA-7E20BF9E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AAD-99DE-4ADD-9C77-4DB74D68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E77-73FC-4D26-AE49-094909C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C2E-B5AC-4BEB-80E2-845202E8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B16-6125-49BB-B6E9-CD56E2B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C15-874D-4010-B334-236DD369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D72-C110-447D-9D15-7ADFFB0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41B-2C55-4410-9C9D-99E5870E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840-E7A1-4913-BFA7-C9AB939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66E-98D7-4591-AECF-16C00060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BE4-5542-4BA5-A527-B165BE124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imul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that incites to action or exertion or quickens action, feeling, thought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ion or thing that promotes increased acti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l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m or draft of a proposed statute presented to a legislature, but not yet enacted or passed and made law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dea introduced to a legislative body (Congress, Parliament, etc.) for consideration as a new law or other new legisl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rst or preliminary form of any writing, subject to revision, copying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ritten proposal of legislation which is sent to a legistlative body for consideration as a new la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p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mine; weaken or destroy insidiousl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weaken and idea, person or thing by draining vital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e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act, decision, or case that serves as a guide or justification for subsequent situatio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egal judgement that acts as a guideline for future deci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wl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ove or go about stealthily, as in search of prey, something to steal, etc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 of stalking your prey in a stealthy manner so as not to be seen or heard until you are ready to str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971800" y="1447920"/>
            <a:ext cx="61722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glomer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orporation consisting of a number of subsidiary companies or divisions in a variety of unrelated industries, usually as a result of merger or acquisit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lter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hesitate or waver in action, purpose, intent, et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pause in an action or process due to a sudden and unexpected environmental ch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ping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or act quickly or suddenly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ove in a direction quickly, perhaps bypassing certain ste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bernate: dictionary.com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spend the winter in close quarters in a dormant condition, as bears and certain other animals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spent inactively due to lack of strategic vision or ability to react to changing environmental fact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mall State with a big probl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hode Island is a _____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Rhode Island locat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percentage of the Rhode Island workforce is without a job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‘Rust Belt?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article, what two places are currently hir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11840" y="480060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the backlog of claims delay benefit pay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048120" y="1981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an Woolley, CEO of Xsellnet, a Management solutions provider for mobile systems, is making a speech. We will listen to the speech and then place the events in order they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200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n the “Technology Company of the Year Award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 taken over by Wireless L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ed trading independ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a difficult deci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nt through a difficult financial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rrowed money from a ba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ienced a difficult period of integ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‘the last few yea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200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tense does she use when talking about the allia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84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four reasons Ms. Wooley gives for the failed merg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09T16:29:53Z</dcterms:modified>
  <cp:revision>11</cp:revision>
  <dc:subject/>
  <dc:title>Slide 1</dc:title>
</cp:coreProperties>
</file>