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EC3-0925-4D99-8197-D6A6C116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68F-81E5-4CD5-892E-7C303C82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266-0D6F-4F75-B05F-025C26FA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62D-6CA2-476A-88FD-FEAA836C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977-38DD-4A6F-87F5-2D42C8E6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D39-8EEA-4D54-87A3-90B1C37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AC4-43D5-44C5-8519-AFCC62B2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1E0-5CDE-4E4A-B818-A60B8F15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1F3-0ED2-4B2B-AC16-9443BBF3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A71-65FE-42D7-85AE-A5FCAA2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836-4149-42FA-A09B-770A306A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39A-CFED-4DA5-A33D-55618D35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A0B9-75A7-4C33-926F-BB8D329614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imul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that incites to action or exertion or quickens action, feeling, thought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ion or thing that promotes increased acti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l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m or draft of a proposed statute presented to a legislature, but not yet enacted or passed and made law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idea introduced to a legislative body (Congress, Parliament, etc.) for consideration as a new law or other new legisl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f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rst or preliminary form of any writing, subject to revision, copying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ritten proposal of legislation which is sent to a legistlative body for consideration as a new la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p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mine; weaken or destroy insidiousl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weaken and idea, person or thing by draining vital com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e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act, decision, or case that serves as a guide or justification for subsequent situatio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egal judgement that acts as a guideline for future decis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w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ove or go about stealthily, as in search of prey, something to steal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 of stalking your prey in a stealthy manner so as not to be seen or heard until you are ready to str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971800" y="1447920"/>
            <a:ext cx="61722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glomer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corporation consisting of a number of subsidiary companies or divisions in a variety of unrelated industries, usually as a result of merger or acquisit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lter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hesitate or waver in action, purpose, intent, etc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pause in an action or process due to a sudden and unexpected environmental ch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ping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or act quickly or suddenly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in a direction quickly, perhaps bypassing certain ste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bern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spend the winter in close quarters in a dormant condition, as bears and certain other animals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spent inactively due to lack of strategic vision or ability to react to changing environmental fact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mall State with a big probl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hode Island is a 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Rhode Island loca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00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percentage of the Rhode Island workforce is without a job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‘Rust Belt?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article, what two places are currently hir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11840" y="4800600"/>
            <a:ext cx="60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the backlog of claims delay benefit paymen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an Woolley, CEO of Xsellnet, a Management solutions provider for mobile systems, is making a speech. We will listen to the speech and then place the events in order they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20040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n the “Technology Company of the Year Award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 taken over by Wireless L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ed trading independ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k a difficult deci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t through a difficult financial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rrowed money from a ba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enced a difficult period of integ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‘the last few yea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2002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the allia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84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four reasons Ms. Wooley gives for the failed merg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09T16:29:53Z</dcterms:modified>
  <cp:revision>11</cp:revision>
  <dc:subject/>
  <dc:title>Slide 1</dc:title>
</cp:coreProperties>
</file>