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C53-89E4-40FD-B0EC-00990D56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0BB-78C5-4111-8543-472C800E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883-B9C4-4376-9A1A-99665A9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63B-4F52-4EFF-988A-615444B3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53C-134B-44B8-8ED3-E7DD4C1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DC3-404E-4FAC-AF7A-916B12D0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078-5A8B-46D3-8B05-1BF027A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0B5-F8AC-45DB-A400-BE4F3CB3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52E-4366-4E65-96D8-742A46A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3DB-795B-4F39-8606-9D58F6C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E83-131F-4D1E-927D-5689A42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DD8-6660-48B4-8610-974EFD8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A55-2935-458F-A90C-F33DA15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344-0883-4918-B8E4-EEBD90FC2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205740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oom T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nday May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:30 to 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Date and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ff or let fall (leaves, hair, feathers, skin, shell, etc.) by natural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br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or clasp in the arms; press to the bosom; hug; to take or receive gladly or eagerly; accept willingly: to embrace an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gh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 tense of To Seek: to try to find or discover by searching or ques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rtain the successive stages in the development or progr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hina takes on the global car busi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io Ti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economic crisis aid China’s entry into the global car busin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you feel about China buying companies such as Opel or Citro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Governments of the US or the EU block China from purchasing these as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is outlined, the scope is determined and the feasibility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process is designed or an object is assembled/built progress is monitored to ensure it stays on time and on bud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or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oo Many Wo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Types of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22860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use of Pre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7480" y="28954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yle Errors/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2T14:41:15Z</dcterms:modified>
  <cp:revision>60</cp:revision>
  <dc:subject/>
  <dc:title>Slide 1</dc:title>
</cp:coreProperties>
</file>