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59F4-3485-47B9-9925-DAF53085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ther words could be used to replace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75B-FA3D-4C1C-AEA3-4A966BDF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2A1-758E-4BB2-9C25-C159CAC0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5ED-797D-4075-BE33-CF21D93D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73B-AF22-436F-BB9C-204F8DB6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AF6-3FE0-4041-AA36-1682B85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770-DC3F-41E1-A422-074EAEC5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14A-D9C5-44F3-B848-8088735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6B7-0EBF-4B16-A477-7875A481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3CA-70C0-4377-9D67-930BAEA9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8D7-631B-4877-8CBA-81378D4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6CB-66DE-4219-B801-3D572D4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0BF-9D0B-42F0-B9D8-EF3F5EA8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B99F-C6A4-4798-B883-6B3F76170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971800" y="205740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oom T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nday May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:30 to 19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Date and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971800" y="14479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ff or let fall (leaves, hair, feathers, skin, shell, etc.) by natural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mbr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or clasp in the arms; press to the bosom; hug; to take or receive gladly or eagerly; accept willingly: to embrace an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gh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 tense of To Seek: to try to find or discover by searching or ques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c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scertain the successive stages in the development or progres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hina takes on the global car busin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7480" y="281952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io Ti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7480" y="34290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current economic crisis aid China’s entry into the global car busin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7480" y="411480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you feel about China buying companies such as Opel or Citro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7480" y="472428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Governments of the US or the EU block China from purchasing these asse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295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efine the Following phases of project manage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1600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itiation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4876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lose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xecution and Control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1905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ject is outlined, the scope is determined and the feasibility is determ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048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hase where resources are assigned to the project and the project schedule is desig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038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process is designed or an object is assembled/built progress is monitored to ensure it stays on time and on budg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51055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project is complete, implementation and use of a new process begins, a building is occupied or a piece of equipment is being used.  Review of the project to determine inefficiencies in the process and monitoring of use for improv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oo Many Wo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Types of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228600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rect use of Pre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7480" y="2895480"/>
            <a:ext cx="60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yle Errors/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4-22T14:41:15Z</dcterms:modified>
  <cp:revision>60</cp:revision>
  <dc:subject/>
  <dc:title>Slide 1</dc:title>
</cp:coreProperties>
</file>