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73B9-CADC-42AC-9D2A-71A22EFB7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ther words could be used to replace th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123C-6031-40EA-9E6E-B92B4400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C658-9EC4-47CE-9FDE-7E319B6B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4E48-1635-490B-BD61-82106A54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102E-0CD5-4762-81B0-F111BA14B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58A8-F62E-41D4-BC67-D5816809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D08F-1155-4FBA-912F-2B62F401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EF00-A988-40C8-92AE-74901ACA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A073-B4A9-40A6-89E9-0781FAFE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0CEB-755D-4709-9607-1F541E4F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7299-8B5D-427B-AA16-BA027688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2D09-C7E1-46BA-8F25-7A7F11BE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EA1A-FB88-4299-9950-6670E6E9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E032-DEE9-49E0-8917-A8C1978E1F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/>
          <p:nvPr/>
        </p:nvSpPr>
        <p:spPr>
          <a:xfrm>
            <a:off x="2971800" y="205740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oom T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onday May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:30 to 19: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 Date and Lo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2971800" y="144792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he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ast off or let fall (leaves, hair, feathers, skin, shell, etc.) by natural proces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mbrac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ake or clasp in the arms; press to the bosom; hug; to take or receive gladly or eagerly; accept willingly: to embrace an ide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ough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st tense of To Seek: to try to find or discover by searching or questio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race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ascertain the successive stages in the development or progress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hina takes on the global car busine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57480" y="2819520"/>
            <a:ext cx="60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Rio Tin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57480" y="342900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could the current economic crisis aid China’s entry into the global car busines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57480" y="411480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you feel about China buying companies such as Opel or Citro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7480" y="472428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uld Governments of the US or the EU block China from purchasing these asset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"/>
          <p:cNvSpPr/>
          <p:nvPr/>
        </p:nvSpPr>
        <p:spPr>
          <a:xfrm>
            <a:off x="3048120" y="12952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Define the Following phases of project manage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9907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1600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Initiation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4876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Close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Planning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3733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Execution and Control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19051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ject is outlined, the scope is determined and the feasibility is determin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30481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phase where resources are assigned to the project and the project schedule is design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4038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process is designed or an object is assembled/built progress is monitored to ensure it stays on time and on budg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5105520"/>
            <a:ext cx="609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project is complete, implementation and use of a new process begins, a building is occupied or a piece of equipment is being used.  Review of the project to determine inefficiencies in the process and monitoring of use for improvem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oo Many Word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 Types of Err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57480" y="2286000"/>
            <a:ext cx="60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orrect use of Preposi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57480" y="2895480"/>
            <a:ext cx="60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yle Errors/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4-22T14:41:15Z</dcterms:modified>
  <cp:revision>60</cp:revision>
  <dc:subject/>
  <dc:title>Slide 1</dc:title>
</cp:coreProperties>
</file>