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8F63C-1A9B-48E9-B260-1D5CB6F59E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other words could be used to replace the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other words could be used to replace the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B246-D030-4712-9B01-99C480895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24A8-C443-4569-8C5E-7A9DC1D05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5D9C-8B49-4D50-8660-10B5D8B46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F726-4C84-4C4F-A939-F96FFE9E7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A047-EA41-4E40-8042-F4CF3FFAD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EA97-4DBE-465A-A2D5-CE14F545C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A626-D096-4EB6-96EB-D65778914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BFE3-5067-4982-AA40-C6D613A16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EB9C-8CEF-4086-998A-23F6C9FF8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EA6F-92C3-4BF1-914B-667494C41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B3FA-7781-467E-B3FF-070B1A6B0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3534-F0AD-4FBD-B733-36E1E939D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4C4AB-0C98-4533-A80E-DA97BA9F96B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2280" y="228600"/>
            <a:ext cx="7086600" cy="4902120"/>
            <a:chOff x="152280" y="228600"/>
            <a:chExt cx="7086600" cy="4902120"/>
          </a:xfrm>
        </p:grpSpPr>
        <p:pic>
          <p:nvPicPr>
            <p:cNvPr id="49" name="" descr=""/>
            <p:cNvPicPr/>
            <p:nvPr/>
          </p:nvPicPr>
          <p:blipFill>
            <a:blip r:embed="rId1"/>
            <a:stretch/>
          </p:blipFill>
          <p:spPr>
            <a:xfrm>
              <a:off x="152280" y="22860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" descr=""/>
            <p:cNvPicPr/>
            <p:nvPr/>
          </p:nvPicPr>
          <p:blipFill>
            <a:blip r:embed="rId2"/>
            <a:stretch/>
          </p:blipFill>
          <p:spPr>
            <a:xfrm>
              <a:off x="2666880" y="99036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"/>
          <p:cNvSpPr/>
          <p:nvPr/>
        </p:nvSpPr>
        <p:spPr>
          <a:xfrm>
            <a:off x="2971800" y="21366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vanced Business Engli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297180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roup Y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971800" y="453240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sson 1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152280" y="152280"/>
            <a:ext cx="7086600" cy="5054760"/>
            <a:chOff x="152280" y="152280"/>
            <a:chExt cx="7086600" cy="5054760"/>
          </a:xfrm>
        </p:grpSpPr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15228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" descr=""/>
            <p:cNvPicPr/>
            <p:nvPr/>
          </p:nvPicPr>
          <p:blipFill>
            <a:blip r:embed="rId2"/>
            <a:stretch/>
          </p:blipFill>
          <p:spPr>
            <a:xfrm>
              <a:off x="266688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" name=""/>
          <p:cNvSpPr/>
          <p:nvPr/>
        </p:nvSpPr>
        <p:spPr>
          <a:xfrm>
            <a:off x="2971800" y="1447920"/>
            <a:ext cx="61722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talled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halt the motion or progress of; bring to a standstill; To cause (a motor or motor vehicle) accidentally to stop running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Pace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rate of movement, esp. in stepping, walking, etc.: to walk at a brisk pace of five miles an hour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Nascent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mencing, or in process of development; beginning to exist or to grow; coming into be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Full brunt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main force or impact, as of an attack or blow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Gauge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determine the exact dimensions, capacity, quantity, or force of; measure; to appraise, estimate, or jud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971800" y="99072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cabulary Re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"/>
          <p:cNvGrpSpPr/>
          <p:nvPr/>
        </p:nvGrpSpPr>
        <p:grpSpPr>
          <a:xfrm>
            <a:off x="152280" y="152280"/>
            <a:ext cx="7086600" cy="5054760"/>
            <a:chOff x="152280" y="152280"/>
            <a:chExt cx="7086600" cy="5054760"/>
          </a:xfrm>
        </p:grpSpPr>
        <p:pic>
          <p:nvPicPr>
            <p:cNvPr id="60" name="" descr=""/>
            <p:cNvPicPr/>
            <p:nvPr/>
          </p:nvPicPr>
          <p:blipFill>
            <a:blip r:embed="rId1"/>
            <a:stretch/>
          </p:blipFill>
          <p:spPr>
            <a:xfrm>
              <a:off x="15228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" descr=""/>
            <p:cNvPicPr/>
            <p:nvPr/>
          </p:nvPicPr>
          <p:blipFill>
            <a:blip r:embed="rId2"/>
            <a:stretch/>
          </p:blipFill>
          <p:spPr>
            <a:xfrm>
              <a:off x="266688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" name=""/>
          <p:cNvSpPr/>
          <p:nvPr/>
        </p:nvSpPr>
        <p:spPr>
          <a:xfrm>
            <a:off x="2971800" y="1447920"/>
            <a:ext cx="61722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Dwindling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become smaller and smaller; shrink; waste away: His vast fortune has dwindled away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Lackluster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cking liveliness, vitality, spirit, or enthusiasm: a lackluster performance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Queasy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ding to cause nausea; nauseating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Beleaguered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harass; beset: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We are beleaguered by problems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Trickling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flow or fall by drops, or in a small, gentle stre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971800" y="99072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cabulary Re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228600" y="152280"/>
            <a:ext cx="7086600" cy="5054760"/>
            <a:chOff x="228600" y="152280"/>
            <a:chExt cx="7086600" cy="5054760"/>
          </a:xfrm>
        </p:grpSpPr>
        <p:pic>
          <p:nvPicPr>
            <p:cNvPr id="65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" descr=""/>
            <p:cNvPicPr/>
            <p:nvPr/>
          </p:nvPicPr>
          <p:blipFill>
            <a:blip r:embed="rId2"/>
            <a:stretch/>
          </p:blipFill>
          <p:spPr>
            <a:xfrm>
              <a:off x="274320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" name=""/>
          <p:cNvSpPr/>
          <p:nvPr/>
        </p:nvSpPr>
        <p:spPr>
          <a:xfrm>
            <a:off x="3048120" y="175248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The UAW and Chrysler: a Lose-Lose Situatio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48120" y="1219320"/>
            <a:ext cx="60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urrent Ev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057480" y="2819520"/>
            <a:ext cx="608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y would the UAW have no alternative than to accept job and/or wage cut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057480" y="3429000"/>
            <a:ext cx="608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y is the UAW waiting to finish the Chrysler negotiations before talking with GM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057480" y="4114800"/>
            <a:ext cx="608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could the current situation cause a split between current Chrysler workers and retiree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057480" y="4724280"/>
            <a:ext cx="608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y might the assets of Chrysler be worth more if the company were broken up in bankruptc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228600" y="152280"/>
            <a:ext cx="7086600" cy="5054760"/>
            <a:chOff x="228600" y="152280"/>
            <a:chExt cx="7086600" cy="5054760"/>
          </a:xfrm>
        </p:grpSpPr>
        <p:pic>
          <p:nvPicPr>
            <p:cNvPr id="74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" descr=""/>
            <p:cNvPicPr/>
            <p:nvPr/>
          </p:nvPicPr>
          <p:blipFill>
            <a:blip r:embed="rId2"/>
            <a:stretch/>
          </p:blipFill>
          <p:spPr>
            <a:xfrm>
              <a:off x="274320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6" name=""/>
          <p:cNvSpPr/>
          <p:nvPr/>
        </p:nvSpPr>
        <p:spPr>
          <a:xfrm>
            <a:off x="3048120" y="129528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Define the Following phases of project managemen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48120" y="990720"/>
            <a:ext cx="60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ject Manage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048120" y="160020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Initiation Ph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048120" y="502920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Close Ph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48120" y="274320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Planning Ph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373392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Execution and Control Ph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1905120"/>
            <a:ext cx="609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Outline of project goals and parameters, determine project feasibility, approval to move into planning phas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8120" y="304812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Project scheduling, assignment of resources (Human Resources and Material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048120" y="4038480"/>
            <a:ext cx="609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Design of project processes and/or implementation of project plan in construction of  final product. On going evaluation of project progres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"/>
          <p:cNvGrpSpPr/>
          <p:nvPr/>
        </p:nvGrpSpPr>
        <p:grpSpPr>
          <a:xfrm>
            <a:off x="228600" y="152280"/>
            <a:ext cx="7086600" cy="5054760"/>
            <a:chOff x="228600" y="152280"/>
            <a:chExt cx="7086600" cy="5054760"/>
          </a:xfrm>
        </p:grpSpPr>
        <p:pic>
          <p:nvPicPr>
            <p:cNvPr id="86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" descr=""/>
            <p:cNvPicPr/>
            <p:nvPr/>
          </p:nvPicPr>
          <p:blipFill>
            <a:blip r:embed="rId2"/>
            <a:stretch/>
          </p:blipFill>
          <p:spPr>
            <a:xfrm>
              <a:off x="274320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" name=""/>
          <p:cNvSpPr/>
          <p:nvPr/>
        </p:nvSpPr>
        <p:spPr>
          <a:xfrm>
            <a:off x="3048120" y="129528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Define the Following phases of project managemen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048120" y="990720"/>
            <a:ext cx="60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ject Manage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048120" y="160020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Initiation Ph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048120" y="487692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Close Ph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048120" y="274320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Planning Ph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048120" y="373392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Execution and Control Ph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048120" y="1905120"/>
            <a:ext cx="609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The phase where the project is outlined, the scope of the project is determined and the feasibility of the project is determin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048120" y="304812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The phase where resources are assigned to the project and the project schedule is design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048120" y="4038480"/>
            <a:ext cx="609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The phase where the project, whether the project is an object being built or a process being designed, is assembled and the progress is monitor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048120" y="5105520"/>
            <a:ext cx="6095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The project is complete, implementation and use of a new process begins, a building is occupied a piece of equipment is being used.  Review of the project to determine inefficiencies in the process and monitoring of use for improvement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2T10:23:48Z</dcterms:created>
  <dc:creator>johnsilb</dc:creator>
  <dc:description/>
  <dc:language>en-US</dc:language>
  <cp:lastModifiedBy>johnsilb</cp:lastModifiedBy>
  <dcterms:modified xsi:type="dcterms:W3CDTF">2009-04-20T08:55:39Z</dcterms:modified>
  <cp:revision>55</cp:revision>
  <dc:subject/>
  <dc:title>Slide 1</dc:title>
</cp:coreProperties>
</file>