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433A-0AF2-406C-8F9D-CEAF2C55A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2C4-5D8A-48A4-904C-93C6EE66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7A4-BB97-4FB8-A950-1D39F849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466-C3C6-411C-96D1-82B18D8C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727-7A38-44A9-A235-560FD43D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40F-E8FA-4960-860C-A4F5AEF3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2ED-DF9F-491C-94A6-209D2A2F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6C2-2A14-415A-9B91-16E56F0E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D07-7000-458C-90F4-91291A12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643-BF3F-44D1-AA79-A0AE70D3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E98-6F74-4B93-8D33-E8ED816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527-D734-473C-84A2-0DBA61E7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8E3-32FE-4F10-AD7E-CE5C4000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0A24-E07C-4958-994A-168EB89F08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ll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alt the motion or progress of; bring to a standstill; To cause (a motor or motor vehicle) accidentally to stop runn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movement, esp. in stepping, walking, etc.: to walk at a brisk pace of five miles an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asce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encing, or in process of development; beginning to exist or to grow; coming into be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ull bru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force or impact, as of an attack or b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aug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determine the exact dimensions, capacity, quantity, or force of; measure; to appraise, estimate, or ju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1447920"/>
            <a:ext cx="617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windl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come smaller and smaller; shrink; waste away: His vast fortune has dwindled aw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ckluster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ing liveliness, vitality, spirit, or enthusiasm: a lackluster performa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eas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ing to cause nausea; nauseat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leaguer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arass; beset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e are beleaguered by problem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ickl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flow or fall by drops, or in a small, gentle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e UAW and Chrysler: a Lose-Lose Situ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281952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would the UAW have no alternative than to accept job and/or wage cu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34290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UAW waiting to finish the Chrysler negotiations before talking with G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7480" y="41148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current situation cause a split between current Chrysler workers and retire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47242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the assets of Chrysler be worth more if the company were broken up in bankruptc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029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90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tline of project goals and parameters, determine project feasibility, approval to move into planning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scheduling, assignment of resources (Human Resources and Materi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sign of project processes and/or implementation of project plan in construction of  final product. On going evaluation of project progr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4876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90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the project is outlined, the scope of the project is determined and the feasibility of the project is determ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resources are assigned to the project and the project schedule is desig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the project, whether the project is an object being built or a process being designed, is assembled and the progress is monito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51055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roject is complete, implementation and use of a new process begins, a building is occupied a piece of equipment is being used.  Review of the project to determine inefficiencies in the process and monitoring of use for improv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0T08:55:39Z</dcterms:modified>
  <cp:revision>55</cp:revision>
  <dc:subject/>
  <dc:title>Slide 1</dc:title>
</cp:coreProperties>
</file>