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0953-9417-4FB4-A21A-05D812E06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F2B-5979-4302-B7CD-DF8502F6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B79-C2D6-49B3-811A-AA56A6D7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45A-0A1B-43A2-8770-B41F866A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D0F-687A-4F72-B8DF-BBE62776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B3A-4FB7-4FE4-AE72-8FE71B4F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31FD-00F6-49DB-81D5-0C4917CA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007-8365-4A3C-A9E5-3A163073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49E-9647-4D59-9EBE-FAF16EDB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4A9-18E4-4DFD-A86A-CD7D5919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7B9-5528-4479-9FC5-015033D3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AC3-2A4C-41F2-9151-7496674E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C57-13B6-445F-A8C6-80E84146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E10D-6E1F-4B13-B05E-B31BBFF441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ll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alt the motion or progress of; bring to a standstill; To cause (a motor or motor vehicle) accidentally to stop runn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te of movement, esp. in stepping, walking, etc.: to walk at a brisk pace of five miles an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asce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encing, or in process of development; beginning to exist or to grow; coming into be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ull bru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in force or impact, as of an attack or b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aug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determine the exact dimensions, capacity, quantity, or force of; measure; to appraise, estimate, or ju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971800" y="1447920"/>
            <a:ext cx="617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windl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ecome smaller and smaller; shrink; waste away: His vast fortune has dwindled awa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ckluster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ing liveliness, vitality, spirit, or enthusiasm: a lackluster performan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easy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ing to cause nausea; nauseat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leaguer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arass; beset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e are beleaguered by problem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ickl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flow or fall by drops, or in a small, gentle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he UAW and Chrysler: a Lose-Lose Situ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7480" y="281952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would the UAW have no alternative than to accept job and/or wage cu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7480" y="34290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UAW waiting to finish the Chrysler negotiations before talking with G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7480" y="41148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current situation cause a split between current Chrysler workers and retire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7480" y="47242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the assets of Chrysler be worth more if the company were broken up in bankruptc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029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1905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tline of project goals and parameters, determine project feasibility, approval to move into planning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 scheduling, assignment of resources (Human Resources and Materi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sign of project processes and/or implementation of project plan in construction of  final product. On going evaluation of project progr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4876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1905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the project is outlined, the scope of the project is determined and the feasibility of the project is determi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resources are assigned to the project and the project schedule is desig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the project, whether the project is an object being built or a process being designed, is assembled and the progress is monito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510552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roject is complete, implementation and use of a new process begins, a building is occupied a piece of equipment is being used.  Review of the project to determine inefficiencies in the process and monitoring of use for improv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0T08:55:39Z</dcterms:modified>
  <cp:revision>55</cp:revision>
  <dc:subject/>
  <dc:title>Slide 1</dc:title>
</cp:coreProperties>
</file>