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FADC-CA52-4A6D-B492-8864F6FE8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2C2-3F9E-436A-AF4D-5B33CF24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A6A-7AA6-4253-968D-D747AE7B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F54-B105-4016-A803-06D4A97D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F3C-9EEF-4823-9170-00992C08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48D-DA3E-42E0-88B9-19E9C723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777-0A12-4BA4-80D3-1AE100EF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5EC-225E-4C1A-AE2C-B47B2C58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BE7-E907-4115-A9EF-52A9E117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84C-B3CE-4F3D-8BDE-9B0FC83A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B4F-E03A-4289-9AB5-7895DA2E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572-5C08-4284-8FD9-FDBFBE89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83D-2F37-4701-87D2-6081A47C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1E0B-5067-4C2C-B1CE-FAE80DF48E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ll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lt the motion or progress of; bring to a standstill; To cause (a motor or motor vehicle) accidentally to stop runn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movement, esp. in stepping, walking, etc.: to walk at a brisk pace of five miles an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sce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ncing, or in process of development; beginning to exist or to grow; coming into be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ull bru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force or impact, as of an attack or b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ug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etermine the exact dimensions, capacity, quantity, or force of; measure; to appraise, estimate, or ju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wind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come smaller and smaller; shrink; waste away: His vast fortune has dwindled a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ckluste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ing liveliness, vitality, spirit, or enthusiasm: a lackluster perform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as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ing to cause nausea; nausea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eaguer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rass; beset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e are beleaguered by problem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flow or fall by drops, or in a small, gentle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e UAW and Chrysler: a Lose-Lose Sit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the UAW have no alternative than to accept job and/or wage cu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UAW waiting to finish the Chrysler negotiations before talking with G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situation cause a split between current Chrysler workers and retire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the assets of Chrysler be worth more if the company were broken up in bankruptc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029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line of project goals and parameters, determine project feasibility, approval to move into planning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scheduling, assignment of resources (Human Resources and Materi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sign of project processes and/or implementation of project plan in construction of  final product. On going evaluation of project progr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 is outlined, the scope of the project is determined and the feasibility of the project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, whether the project is an object being built or a process being designed, is assembled and the progress is monito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0T08:55:39Z</dcterms:modified>
  <cp:revision>55</cp:revision>
  <dc:subject/>
  <dc:title>Slide 1</dc:title>
</cp:coreProperties>
</file>