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09E3-CC02-4E78-938A-003C7195A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FBB-4E8D-4112-8354-080DFB64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2CF-9D8F-4BF5-9935-177F72AC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D98-D344-4FD0-BAF9-E7581EBC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03E-B9C8-4152-8216-E0373999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24A-EDA8-4E05-8827-79FB37B0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E84-D64E-407E-992F-6149579F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19B-49B9-4892-B6A3-71AD3E21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88E-3033-41ED-9B02-8E9D78A6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8BF-DC50-4AEC-A771-643CA147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95E-3E35-4C55-B1CD-8CE4F90B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1B6-7916-44B1-BA4C-70E251AB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A79-755E-44AD-BDB6-467CB406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8EF1-B8C1-4410-87BC-3F067BFAB5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ab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for or capable of being thrown away after being used or used up: disposable plastic spoons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disposable cigarette lighte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; free for use; availabl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very disposable vehicle was sen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ar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nd suddenly above the normal or usual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jab or poke, as with a pointed object. To goad to action; inci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ik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resembling such a nail; an abrupt increase or rise: a chart showing a spike of unusual activity in the stock mar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nt up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ned; restrained; not vented or expressed; curbed: pent-up emotions; pent-up rag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idal Wav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, destructive ocean wave, produced by a seaquake, hurricane, or strong wind; any widespread or powerful movement, opinion, or tendency: a tidal wave of public indign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lea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elease or loose from or as if from a leash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leashed the guard dogs; unleashed his pent-up rage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ar Frui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duce; yiel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lants bearing frui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pu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that goads, impels, or urges, as to action, speed, or achieve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fligat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terly and shamelessly immoral or dissipated; thoroughly dissolute; recklessly prodigal or extravag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8558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the Article and identify 3 Metaphors and rewrite the sentence without using a metaph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given words to complete the Metaph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828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ike - Sprung - Crash - Slump - Gobbled up - Green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umer spending rose 0.2% in February, but that was due to January’s _______________ in disposable inco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3429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past fifteen years a new middle class has _______________ up in emerging mark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41148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ast oil price _______________ in the late 1990’s sparked a round of mergers between the big international oil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__________ in oil prices since last summer makes these assets likely target for independent oil companies, which in turn look set to be __________ by the reserve-hungry multinationa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5029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China’s foreign exchange reserves are believed to be held in the _____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3048120" y="1143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ony, Ericsson: Better Off Alo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7480" y="18288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7480" y="25146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it be better if Sony and Ericsson go their separate way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have posted another quarterly loss and there is not much technological rationale for Ericsson to stick with So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7480" y="33526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a ‘divorce’ take some time to work ou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sson will not want to give up its 50% stake at firesale prices in a deteriorating ma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7480" y="38862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described as ‘a strategic pillar’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4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y and Ericsson both reiterated that the joint venture is ‘a strategic pillar.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 the following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, up and away (repr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are the 3 ‘special problems’ listed that make airport construction projects speci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y building techniques, interface with transport links and sophisticated electronics to handle passengers and bagg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position did Tony Douglas have before being put in charge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 three years he was in charge of BAA supply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429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makes this project so unus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AA is running the project itself and as much as possible construction is taking place off-s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06T07:24:06Z</dcterms:modified>
  <cp:revision>49</cp:revision>
  <dc:subject/>
  <dc:title>Slide 1</dc:title>
</cp:coreProperties>
</file>