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0DF0-F009-47A1-A331-77FDD20A4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8AD-491C-4691-A466-087ED589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253-863C-44B3-BB69-FFB0A5F1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BB1-BFF1-445E-86C9-2D90A046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016-09BE-44B3-8CB1-E0B998A0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492-A2A3-4CB6-AF40-795C661E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B04-C2AD-47FF-BF15-470619DC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0C2-E9C5-478E-B3B2-FABD2018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292-3AFF-4EE3-A0BA-5ACDF6E7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4BC-DBC4-403A-A155-B5C53065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895-5151-467C-A553-BAA22062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B47-5804-4508-8FC4-F37366AD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678-26D9-40AE-AE53-7930529A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994A-4A61-4752-9326-CB7D61C542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44792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ab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for or capable of being thrown away after being used or used up: disposable plastic spoons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disposable cigarette lighte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; free for use; availabl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very disposable vehicle was sen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ar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scend suddenly above the normal or usual le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jab or poke, as with a pointed object. To goad to action; inci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pik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resembling such a nail; an abrupt increase or rise: a chart showing a spike of unusual activity in the stock mar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nt up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ned; restrained; not vented or expressed; curbed: pent-up emotions; pent-up rag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idal Wav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, destructive ocean wave, produced by a seaquake, hurricane, or strong wind; any widespread or powerful movement, opinion, or tendency: a tidal wave of public indign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leash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elease or loose from or as if from a leash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leashed the guard dogs; unleashed his pent-up rage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ar Frui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duce; yiel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lants bearing frui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pur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that goads, impels, or urges, as to action, speed, or achieve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fligat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terly and shamelessly immoral or dissipated; thoroughly dissolute; recklessly prodigal or extravag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ony, Ericsson: Better Off Alo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8558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the Article and identify 3 Metaphors and rewrite the sentence without using a metaph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given words to complete the Metaph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ke - Sprung - Crash - Slump - Gobbled up - Green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590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umer spending rose 0.2% in February, but that was due to January’s _______________ in disposable inc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3429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he past fifteen years a new middle class has _______________ up in emerging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41148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ast oil price _______________ in the late 1990’s sparked a round of mergers between the big international oil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__________ in oil prices since last summer makes these assets likely target for independent oil companies, which in turn look set to be __________ by the reserve-hungry multinationa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China’s foreign exchange reserves are believed to be held in the 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3048120" y="1143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ony, Ericsson: Better Off Alo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7480" y="18288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he following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7480" y="25146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it be better if Sony and Ericsson go their separate way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have posted another quarterly loss and there is not much technological rationale for Ericsson to stick with So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7480" y="335268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a ‘divorce’ take some time to work ou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csson will not want to give up its 50% stake at firesale prices in a deteriorating mar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7480" y="38862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described as ‘a strategic pillar’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48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y and Ericsson both reiterated that the joint venture is ‘a strategic pillar.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 the following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, up and away (repr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981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are the 3 ‘special problems’ listed that make airport construction projects spe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icky building techniques, interface with transport links and sophisticated electronics to handle passengers and bagg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743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position did Tony Douglas have before being put in charge of the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 three years he was in charge of BAA supply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3429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makes this project so unus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A is running the project itself and as much as possible construction is taking place off-s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06T07:24:06Z</dcterms:modified>
  <cp:revision>49</cp:revision>
  <dc:subject/>
  <dc:title>Slide 1</dc:title>
</cp:coreProperties>
</file>