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DF7B-59D3-4A16-B733-1B027986B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6CA-AF87-4BCF-ABC9-DF756575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9A6-A043-400C-B009-BDEB8B0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4E6-82CC-444D-B8CA-F947229B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7C0-FA9B-4701-A2F2-6894B6C9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C2D-36BA-44C6-BFEA-CA520E9F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E50-7D29-4DB4-BDAE-F2C888F2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6FF-83B3-499E-916E-7837C77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D96-21BE-488F-90B6-04021A2C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C99-E596-4715-B42B-5456D519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54B-D7AA-4622-8262-252BB1A7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871-45BA-4415-A51F-1530064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D8E-0865-47DB-AAB4-71A9E30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9F9E-34B7-4B6E-9A71-85AE71619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ab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for or capable of being thrown away after being used or used up: disposable plastic spoons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disposable cigarette ligh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; free for use; availabl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ry disposable vehicle was s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ar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nd suddenly above the normal or usual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jab or poke, as with a pointed object. To goad to action; inci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ik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resembling such a nail; an abrupt increase or rise: a chart showing a spike of unusual activity in the stock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nt up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ned; restrained; not vented or expressed; curbed: pent-up emotions; pent-up r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dal Wav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, destructive ocean wave, produced by a seaquake, hurricane, or strong wind; any widespread or powerful movement, opinion, or tendency: a tidal wave of public indig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lea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elease or loose from or as if from a leash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leashed the guard dogs; unleashed his pent-up rag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ar Frui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duce; yiel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lants bearing frui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u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that goads, impels, or urges, as to action, speed, or achiev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fligat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terly and shamelessly immoral or dissipated; thoroughly dissolute; recklessly prodigal or extravag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8558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the Article and identify 3 Metaphors and rewrite the sentence without using a metap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given words to complete the Metap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ke - Sprung - Crash - Slump - Gobbled up - Green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 spending rose 0.2% in February, but that was due to January’s _______________ in disposable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429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past fifteen years a new middle class has _______________ up in emerging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1148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oil price _______________ in the late 1990’s sparked a round of mergers between the big international oil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__________ in oil prices since last summer makes these assets likely target for independent oil companies, which in turn look set to be __________ by the reserve-hungry multination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China’s foreign exchange reserves are believed to be held in the 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3048120" y="1143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18288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7480" y="25146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it be better if Sony and Ericsson go their separate way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have posted another quarterly loss and there is not much technological rationale for Ericsson to stick with So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7480" y="33526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a ‘divorce’ take some time to work ou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sson will not want to give up its 50% stake at firesale prices in a deteriorating ma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7480" y="38862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described as ‘a strategic pillar’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y and Ericsson both reiterated that the joint venture is ‘a strategic pillar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, up and away (repr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are the 3 ‘special problems’ listed that make airport construction projects spe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y building techniques, interface with transport links and sophisticated electronics to handle passengers and bagg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position did Tony Douglas have before being put in charge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 three years he was in charge of BAA supply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429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makes this project so unus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A is running the project itself and as much as possible construction is taking place off-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06T07:24:06Z</dcterms:modified>
  <cp:revision>49</cp:revision>
  <dc:subject/>
  <dc:title>Slide 1</dc:title>
</cp:coreProperties>
</file>