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76CA-5800-4E98-B87A-3698F5D87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E5D3-E652-442E-844A-23B73324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225-A094-4EC4-98B4-8A9EA129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012C-2F78-4DC2-BC0B-6B0DFF74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52D-EC42-41C0-AF53-55E57993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FF1-399A-438B-8255-667D62BB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C8A-81FD-4C7A-B881-C92D930D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CC4-A220-4755-9656-0218BF4E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4CF-3B83-48AD-AE71-66600C29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79D-229B-4162-B2A1-B0AEB9FD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82E-B402-46E9-ABAC-0048174B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CA6-9B24-4245-BAAF-CD130CAE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910-A5FF-437C-A173-D6500601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4F47-168A-4D1A-A191-B24585EB6B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971800" y="1447920"/>
            <a:ext cx="617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sposabl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ed for or capable of being thrown away after being used or used up: disposable plastic spoons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disposable cigarette lighter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; free for use; available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very disposable vehicle was sen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ar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scend suddenly above the normal or usual lev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jab or poke, as with a pointed object. To goad to action; inci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pik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thing resembling such a nail; an abrupt increase or rise: a chart showing a spike of unusual activity in the stock mark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nt up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ined; restrained; not vented or expressed; curbed: pent-up emotions; pent-up rag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971800" y="144792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idal Wav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ge, destructive ocean wave, produced by a seaquake, hurricane, or strong wind; any widespread or powerful movement, opinion, or tendency: a tidal wave of public indign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leash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release or loose from or as if from a leash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leashed the guard dogs; unleashed his pent-up rage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ar Frui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roduce; yield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lants bearing frui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pur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thing that goads, impels, or urges, as to action, speed, or achieve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fligat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terly and shamelessly immoral or dissipated; thoroughly dissolute; recklessly prodigal or extravag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ony, Ericsson: Better Off Alon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285588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the Article and identify 3 Metaphors and rewrite the sentence without using a metaph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given words to complete the Metaph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828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ke - Sprung - Crash - Slump - Gobbled up - Green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2590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umer spending rose 0.2% in February, but that was due to January’s _______________ in disposable inco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34290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the past fifteen years a new middle class has _______________ up in emerging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41148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ast oil price _______________ in the late 1990’s sparked a round of mergers between the big international oil compan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__________ in oil prices since last summer makes these assets likely target for independent oil companies, which in turn look set to be __________ by the reserve-hungry multinationa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5029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of China’s foreign exchange reserves are believed to be held in the _____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3048120" y="1143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ony, Ericsson: Better Off Alon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7480" y="182880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the following ques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7480" y="25146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ight it be better if Sony and Ericsson go their separate way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18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have posted another quarterly loss and there is not much technological rationale for Ericsson to stick with So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7480" y="335268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ight a ‘divorce’ take some time to work ou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1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icsson will not want to give up its 50% stake at firesale prices in a deteriorating mar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7480" y="388620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described as ‘a strategic pillar’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248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y and Ericsson both reiterated that the joint venture is ‘a strategic pillar.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swer the following ques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, up and away (repri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981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are the 3 ‘special problems’ listed that make airport construction projects speci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18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icky building techniques, interface with transport links and sophisticated electronics to handle passengers and bagg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2743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position did Tony Douglas have before being put in charge of the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9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r three years he was in charge of BAA supply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3429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makes this project so unusu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A is running the project itself and as much as possible construction is taking place off-s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06T07:24:06Z</dcterms:modified>
  <cp:revision>49</cp:revision>
  <dc:subject/>
  <dc:title>Slide 1</dc:title>
</cp:coreProperties>
</file>