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26F5-9488-4CFD-9550-C6C926553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2 track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0B4E-62AC-468A-BCBC-D90E24D9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DC1-D0E9-4226-845E-CDDC3C2F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AC8-B198-4B40-AB27-89E15FF9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DAD-1EC2-44FB-A71F-0FBDE50C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36D-B08B-4DC4-A8F0-D2EE41EB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AC3-32E7-4092-AA32-8A379BE2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998-ABC6-4B49-A719-0E18837D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802-9F38-4B9E-A5BD-BA218F09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FEE-2424-4473-A6E2-71764F2E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852-4205-4EFE-A82B-922F5FBF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802-8886-4FDB-839E-B8771431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AAF-D344-45C9-8AFB-4DCFEC56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B9D8-9389-44EA-AF0F-F4B3FB6AC3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28600"/>
            <a:ext cx="7086600" cy="4902120"/>
            <a:chOff x="152280" y="228600"/>
            <a:chExt cx="7086600" cy="49021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666880" y="99036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2971800" y="2136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usiness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3505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Silberste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2971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up Y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32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the following questions based on the conver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successful do you think the meeting 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 you think Serge and David understoo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uld the meeting have been more effec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5720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e second version of the same meeting more effec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ld you be more ____________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 _____ is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, what your _______ is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you _____ what I _____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4343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_________ what we’ve decid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2362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3124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ay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e               m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3434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3048120" y="1371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al Forms 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 1-6 with a-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9907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ligent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Obligation about a presen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20574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Advice about a presen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2362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A possi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666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Advice about a past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718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Positive de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2767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Negative de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4038480"/>
            <a:ext cx="609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owever, meeting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gh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not alway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he best use of the teams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et ther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way to make the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y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’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l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waste of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am leade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d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verything they can to make sure they organize them proper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at is why companie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lear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how to run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 course, one person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have don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his before the team started working toget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3276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3048120" y="3200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d on an experience you have had in a work situation, write an email that tells your manager about a problem you have encountered and a possible solu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20574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Mail Exer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152280"/>
            <a:ext cx="7086600" cy="5054760"/>
            <a:chOff x="152280" y="152280"/>
            <a:chExt cx="7086600" cy="50547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228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66688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971800" y="1447920"/>
            <a:ext cx="617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ails – dict.com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reet or acclaim enthusiastical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ake Out -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elimination or winnowing out of some competing businesses, products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elated 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ing or being after the customary, useful, or expected ti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hrug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raise and contract (the shoulders), expressing indifference, disdain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xed – dict.com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hop or fell with or as if with an ax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form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remove ruthlessly or suddenly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social program that was axed to effectuate budget cut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repentan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ing or exhibiting no remor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rry the can – dict.com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itish and Canadian Slang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ake the responsibil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erdict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judgment; dec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animous – dict.com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ing the same opinions or views; being in complete harmony or accor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9907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cabulary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ian markets extend global Rally on Citi new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3048120" y="152388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grammar.ccc.commnet.edu/grammar/sequence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19051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243828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same-time action, use the present t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ager to go to the concert because 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o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Wallflow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5053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earlier action, use past t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now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 I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a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right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4343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 period of time extending from some point in the past to the present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lie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y have elec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ht candid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5627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ction to come, use the future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esident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ay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 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will vet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bill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1523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057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nother completed past action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an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go home because 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s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y par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2004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n earlier action, use the pas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new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had ma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right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4343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 period of time extending from some point in the past to the present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lie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y have elect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ht candid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1523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Present Perfect or Past Perfec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243828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y purpose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s grow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foot since s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row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d 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asty before the sherif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tu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523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057400"/>
            <a:ext cx="6095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action happening at the same time, use the presen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b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 happy if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y car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2004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show an earlier action, use the pas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urely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as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is exam if you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studie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ar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34340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how future actio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arlier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ction of the independent clause, use the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lleg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bab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s doors next summer if enrollm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creas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3048120" y="1066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f T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1523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Future Perfec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243828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y purpose, use the present tense or present perfect te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stud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have tak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y credits by the time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du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studen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ll have tak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ty credits by the time the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ave gradu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28600" y="152280"/>
            <a:ext cx="7086600" cy="5054760"/>
            <a:chOff x="228600" y="152280"/>
            <a:chExt cx="7086600" cy="505476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2793960" cy="49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743200" y="152280"/>
              <a:ext cx="4572000" cy="77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3048120" y="1752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12193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3623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your experiences decide how people rate in the following are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124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meetings, people generall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505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Clear………………..are uncl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8862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t they don’t understand ………………..never ad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4267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ick to the agenda ……………..do not stick to the a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46483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ize decisions clearly…..…don’t summarize clear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49528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direct or sometimes rude…are indirect and never r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410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ten interrupt ……………..never 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0:23:48Z</dcterms:created>
  <dc:creator>johnsilb</dc:creator>
  <dc:description/>
  <dc:language>en-US</dc:language>
  <cp:lastModifiedBy>johnsilb</cp:lastModifiedBy>
  <dcterms:modified xsi:type="dcterms:W3CDTF">2009-03-11T07:08:21Z</dcterms:modified>
  <cp:revision>33</cp:revision>
  <dc:subject/>
  <dc:title>Slide 1</dc:title>
</cp:coreProperties>
</file>