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7955-16A6-4260-9B2E-060BE28D3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E7AD-EC03-4052-8CE2-15C2FE34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CF5-1018-420E-85E0-7FAB324A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B1A-2C29-4F3F-96CE-09A24491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BF1-A21B-42CC-B91F-D37C9FC8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D61-FFDE-48BC-A921-457FBA07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4DCA-788A-483B-9E7C-1F3DC713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7B01-B031-4B85-B99D-A9A8B617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77C-845B-4389-9767-BD7476E8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C57D-E7F3-48F6-9F66-0A5B974C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A8B-97E9-490F-A5C3-472DF63C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1783-E565-4080-B06F-496669DD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E231-1FE8-4698-9F6C-E33B71F0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6BDD-85A0-44CA-80B9-ABA20F68C0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the following questions based on the conver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successful do you think the meeting 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3505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uch do you think Serge and David understoo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ould the meeting have been more effec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5720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e second version of the same meeting more effec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ld you be more ____________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 _____ is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3505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, what your _______ is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you _____ what I _____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4343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we _________ what we’ve decid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2362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speci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3124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505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ay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e               m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43434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 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3048120" y="1371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al Forms 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 1-6 with a-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ligent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Obligation about a present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2057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Advice about a present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A possi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2666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Advice about a past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718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Positive de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2767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Negative de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4038480"/>
            <a:ext cx="6095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owever, meeting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gh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not alway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he best use of the teams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et ther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b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way to make them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y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n’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ll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waste of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am leader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ould d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everything they can to make sure they organize them proper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at is why companie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lear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how to run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f course, one person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ould have don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his before the team started working togeth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1752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2666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3048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3276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/>
          <p:nvPr/>
        </p:nvSpPr>
        <p:spPr>
          <a:xfrm>
            <a:off x="3048120" y="3200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sed on an experience you have had in a work situation, write an email that tells your manager about a problem you have encountered and a possible solu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20574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Mail Exer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971800" y="1447920"/>
            <a:ext cx="6172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ails – dict.com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reet or acclaim enthusiastical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ake Out -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elimination or winnowing out of some competing businesses, products, et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lated 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ing or being after the customary, useful, or expected ti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ru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raise and contract (the shoulders), expressing indifference, disdain, et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xed – dict.com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hop or fell with or as if with an ax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form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remove ruthlessly or suddenly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social program that was axed to effectuate budget cuts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repenta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ing or exhibiting no remor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rry the can – dict.com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itish and Canadian Slang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ake the responsibil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erdic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judgment; dec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animous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ring the same opinions or views; being in complete harmony or accor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ian markets extend global Rally on Citi new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3048120" y="1523880"/>
            <a:ext cx="60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grammar.ccc.commnet.edu/grammar/sequence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19051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243828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same-time action, use the present te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ager to go to the concert because 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o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Wallflow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5053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earlier action, use past te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now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 I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a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right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4343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 period of time extending from some point in the past to the present, use the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lie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y have elect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ight candid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55627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action to come, use the future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esident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say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 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will vet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bill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1523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057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nother completed past action, use the pas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an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go home because 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ss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y par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2004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an earlier action, use the pas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new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had ma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right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4343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 period of time extending from some point in the past to the present, use the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lie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y have elect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ight candid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1523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Present Perfect or Past Perfec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243828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y purpose, use the pas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s grow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foot since sh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ur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row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d tur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asty before the sherif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tur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1523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057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ction happening at the same time, use the presen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 b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 happy if 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y car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2004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an earlier action, use the pas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urely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as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is exam if you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studie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ar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34340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future actio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arlier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ction of the independent clause, use the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lleg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obab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s doors next summer if enrollment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creas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1523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Future Perfec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243828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y purpose, use the present tense or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student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 have tak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y credits by the time 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du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student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 have tak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ty credits by the time 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ve gradu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23623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d on your experiences decide how people rate in the following are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meetings, people generall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505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Clear………………..are uncl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t they don’t understand ………………..never ad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ick to the agenda ……………..do not stick to the a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4648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ize decisions clearly…..…don’t summarize clear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4952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direct or sometimes rude…are indirect and never r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410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ten interrupt ……………..never interru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3-11T07:08:21Z</dcterms:modified>
  <cp:revision>33</cp:revision>
  <dc:subject/>
  <dc:title>Slide 1</dc:title>
</cp:coreProperties>
</file>