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39C-C767-43C3-8DEE-2A3F5969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B24-1FFA-4CF0-9AD2-2E3A54CD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A12-7104-45EF-9F41-0166E166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846-B434-47A2-9703-217FC188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EB5-269E-46D9-A740-4CD477F1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B34-D156-4E4B-8CB4-DD1B969E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B86-9BE6-4B49-81D6-2352BD1E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C3B-8B1B-48BF-A7CD-3AC9819F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58B-834D-446A-9EB7-4AAA8091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05F-5D48-49CD-AAAA-B03244E8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662-486E-4E87-865E-C02A36AD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8C5-19CF-4A92-8A52-9B4FA4BF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AB9C-3579-4A44-B2A9-76F116C2DF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 – February 18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3048120" y="1219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209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ain the topic for each passage and 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2767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Oil and PP have announced they are going to merge. It will be the biggest eve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oil indust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27672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ightly Telecom is to split into two and demerge its fixed-line and mobile businesses as part of an on-going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im of the demerger is to cut debt by £10 bill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ents de France, the French building group, is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d Square Industries of the UK for €3.1 billion. This is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riendly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s RSI are likely to welcome it and agree to it. But the take comes only a year after RSI rejected an unwante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ostile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2004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bott Bank is doing badly and may become the victim of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re were rumors of a possible takeover by Bullion, but it says it won’t play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ite k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Abbot by coming to its defense. This leaves Abbot exposed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s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it may be prey to a big international bank. Abbot does have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ison pi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ever, in the form of a special class of shares that will be very expensive for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bu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3048120" y="9144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1905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708280"/>
            <a:ext cx="609588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8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Low-price general retail, Cotton Stores acquires Bestco supermarkets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rsif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 food retai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90’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Cotton makes a series of acquisitions of retail and non-retail businesses and becomes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ent compa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nglomer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 other businesses as it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ubsidiar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Shareholders complain that Cotton Group i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focu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y demand that its CDEO shoul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po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non-retail companies, which they describe a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n-core asse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reinvest the money in its main,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re a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retailing. They say that th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st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necessary for future growth and profit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1447920"/>
            <a:ext cx="61722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tudy or ruminate; ponder. to think about carefu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ningfully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 significant manner; so as to be significan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rked – dict.com: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ive an enthusiastic response. 2. To set in motion; activat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incident sparked a controvers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k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arch curiously; pry (often fol. by around or abou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olidation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t or instance of consolidating; the state of being consolidated; unification: consolidation of compani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.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ct of bringing together or unifying two more things – in our context, compan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971800" y="1981080"/>
            <a:ext cx="61722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bbled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swallow or eat hastily or hungrily in large pieces; gulp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ize upon eagerly (often fol. by up)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fter being gone for so long, they gobbled up all the local new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food, service, etc., as for a party or wedding: to cater for a banque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or supply what is desired or required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o cater to popular demand; to cater to an invali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y great in number, quantity, amount, etc.: vast sums of mone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d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position of anything surrounded by other things or parts, or occurring in the middle of a period of time, course of action, etc. (usually prec. by the): a familiar face in the midst of the crow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2971800" y="1981080"/>
            <a:ext cx="61722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eavor: dict.com: –(used without object)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exert oneself to do or effect something; make an effort; strive: We must constantly endeavor if we are to succeed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used with object) 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ttempt; try: He endeavors to keep things neat in his apart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e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 new kind; different from anything seen or known before: a novel ide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kl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ndertake to handle, master, solve, etc.: to tackle a difficult probl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a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 put in or on something for conveyance or transportation; freight; cargo: The truck carried a load of watermel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itches -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 malfunction, mishap, or technical problem; a sna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2971800" y="1447920"/>
            <a:ext cx="61722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autionary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, pertaining to, or characterized by precaution: precautionary measur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xpressing or advising precaution: precautionary warnings against possible tornado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at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ake easier or less difficu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te of activity, progress, growth, performance, etc.; temp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es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ention or bring forward as support, illustration, or proof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ited several instances of insubordinate behavio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ligen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w. the failure to exercise that degree of care that, in the circumstances, the law requires for the protection of other pers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rai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ation or restric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l majors mull mega-mergers as they eye min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s the new middle class develop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article, how is middle class defin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people who are middle class behav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are Democracy and the Middle Class link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rrangement or juxtaposition of words or other elements, especially those that commonly co-occur, a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ncid butter, bosom buddy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ad serio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project management sentences using the correct form of the verbs from the list which collocate with the nouns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n some sentences, more than one verb i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343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048120" y="990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371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iss   reach   establish   achieve   meet   stick to   set   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76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ess the team really pulls together, we’ll never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adli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Malaysian o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209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has been difficult so far. However, once we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xt milesto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evething should get easi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53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819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ake sense of our tasks, we need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ime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ithin which we can al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k is such an unreasonable boss: he always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overseas sales too hi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886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ratulations! We’ve _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quality this year due to all your hard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495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’ve been vague about the schedule for too long. It’s time we _____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d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definite and move 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end, I 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deadli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my accountancy project, but it didn’t matter: everybody else was late to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3048120" y="1219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Vocabulary in Use 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3434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more than 50% of the shares of a company are owned by one investor, giving them control over how it is ru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181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21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an investor owns less than 50% of the shares of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8T07:22:59Z</dcterms:modified>
  <cp:revision>19</cp:revision>
  <dc:subject/>
  <dc:title>Slide 1</dc:title>
</cp:coreProperties>
</file>