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7CF-1301-474F-85DD-5FB46FA9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758-A68D-4075-8C1C-B103C11D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C28-BDCA-4197-8623-0F4B684E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B6C-2767-4571-8ED8-5BCED84E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08F-FDDB-40A5-9F0F-3352A5E7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801-6F72-4BEA-B5AC-CF3EE1C4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75D-A4F3-4E08-9B50-0510A197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73B-AF17-49DE-8175-25A84CDC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39A-EC2D-4852-85F5-713329A9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F28-B405-4FE5-9252-0C118A3E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90A-5576-40BD-BEF3-823F890F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7E3-DCBF-4054-99F9-B6157A7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3271-F7B4-44A1-A0BF-FF6B8B0992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 – February 16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i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middle of; surrounded by; among: to stand weeping amid the rui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; in or throughout the course o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r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ale of goods in quantity, as to retailers or jobbers, for resal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ggregator manufacturer’s products for sale/distribution to retail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unge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r thrust forcibly or suddenly into something, as a liquid, a penetrable substance, a place, etc.; immerse; submerge: to plunge a dagger into one's hear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ring suddenly or forcibly into some condition, situation, etc.: to plunge a country into war; to pull a switch and plunge a house into darkn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pply stored for future use, usually carefully accrued and maintain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upply, such as inventory that is being stored for future use. It can also be used to connote overstocked inventory that will not be easily mo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one another in uninterrupted succession or order; successive: six consecutive numbers, such as 5, 6, 7, 8, 9, 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xample of an oil maj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are oil minor attractive acquistions for the majo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quity de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biggest IOC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ight be some obstacles to these merg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514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has the T5 agreement facilitated the management of the T5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ajor constraint to construction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581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id BAA take on all the risk for conflicts during the construction of the termi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4191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is point to other core competencies for BA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017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incipal problem related to building airpo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4382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icky building techn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ed to interface with other transport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mplex electronic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A’s options for managing the proje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3809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naging the project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Outsourcing to a project management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956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pecific constraints inposed by the nature of the s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876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access to the building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6T07:29:02Z</dcterms:modified>
  <cp:revision>15</cp:revision>
  <dc:subject/>
  <dc:title>Slide 1</dc:title>
</cp:coreProperties>
</file>