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DF6-B112-488C-B450-6AE4B938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795-003C-41D3-84FF-0852652C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017-FF98-4EBE-BDBC-02A4FCC0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4CE-D070-4963-B079-A6A9CE74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54C-E010-4A1E-BD42-52DCD583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57E-3FBA-4124-B10E-316DCC80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CA0-C52E-4F9A-9107-4BC92EBE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8EF1-133E-4272-BA58-0CD11FC2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33B-C1E3-45A3-AA74-EA1D289E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6C9-AB8E-4152-B8CF-08458D1F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2A9-5323-4466-9908-D4FAFF73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006-DE69-4FF4-A7DC-353B859C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C1A3-9684-4CE5-A106-E0D8D0BB0E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 – February 16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id-dictionary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middle of; surrounded by; among: to stand weeping amid the ruin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; in or throughout the course o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lesalers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ale of goods in quantity, as to retailers or jobbers, for resale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aggregator manufacturer’s products for sale/distribution to retail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unged-dictionary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st or thrust forcibly or suddenly into something, as a liquid, a penetrable substance, a place, etc.; immerse; submerge: to plunge a dagger into one's hear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ring suddenly or forcibly into some condition, situation, etc.: to plunge a country into war; to pull a switch and plunge a house into darkn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pi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cut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971800" y="198108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piles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upply stored for future use, usually carefully accrued and maintained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supply, such as inventory that is being stored for future use. It can also be used to connote overstocked inventory that will not be easily mo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cutive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one another in uninterrupted succession or order; successive: six consecutive numbers, such as 5, 6, 7, 8, 9, 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l majors mull mega-mergers as they eye min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example of an oil maj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are oil minor attractive acquistions for the majo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equity de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the biggest IOC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ight be some obstacles to these merg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048120" y="1981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, up and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514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has the T5 agreement facilitated the management of the T5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ajor constraint to construction of the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581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id BAA take on all the risk for conflicts during the construction of the termi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4191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this point to other core competencies for BA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, up and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017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incipal problem related to building airpo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4382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ricky building techni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eed to interface with other transport lin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omplex electronic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2767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A’s options for managing the projec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3809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anaging the project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Outsourcing to a project management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4956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pecific constraints inposed by the nature of the s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4876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imited access to the building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imited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rrangement or juxtaposition of words or other elements, especially those that commonly co-occur, a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ncid butter, bosom buddy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ad serio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project management sentences using the correct form of the verbs from the list which collocate with the nouns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n some sentences, more than one verb i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343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048120" y="990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676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ess the team really pulls together, we’ll never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adli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Malaysian o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2209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has been difficult so far. However, once we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xt milesto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evething should get easi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819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ake sense of our tasks, we need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ime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ithin which we can al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352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k is such an unreasonable boss: he always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overseas sales too hi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3886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ratulations! We’ve _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quality this year due to all your hard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495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’ve been vague about the schedule for too long. It’s time we _____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d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definite and move 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end, I 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deadli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my accountancy project, but it didn’t matter: everybody else was late to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6T07:29:02Z</dcterms:modified>
  <cp:revision>15</cp:revision>
  <dc:subject/>
  <dc:title>Slide 1</dc:title>
</cp:coreProperties>
</file>