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EAE-3324-4062-A525-B3345DF7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E48-2D50-4510-BCBD-051AE233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2D8-766D-45C1-820F-BC81D91B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0B2-255B-4149-B0DF-14D80FE4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B42-D3A6-4CAE-AB7A-2124701D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D80-BED0-4441-A682-8177A02C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9FC-5388-49A5-9D9D-A3AB06C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C2B-4F2F-4ADF-8ADB-B4B003C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1DF-F689-4400-B44B-E4B0D77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CDF-3FB5-464D-BCE9-CE48899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021-BAAE-4E79-BF8E-A9CD1D9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7E0-7FF3-4022-B485-FAFEFCFD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EA7-7C8E-40BB-AD76-962B475DFA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pero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characterized by financial success or good fortune; flourishing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financial suc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igh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dition, state, or situation, esp. an unfavorable or unfortunate on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e of being that is usually characterized by unfavorable condi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lanche: dictionary.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verwhelm with an extremely large amount of anything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suddenly overwhelmed with some thing (such as snow) or event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log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serve or accumulation, as of stock, work, or business: a backlog of business orders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 that is left undone due to a state of affairs where there is more work than manpower available to do th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cause a person to take heed; make an impres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art clearing a backlo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 Inventories off by most in 17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wholesalers want to cut back inventories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is mean for manufactur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ventory tu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measuring Inventory turns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5000" y="4800600"/>
            <a:ext cx="60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he measure of an economy adopted by the United States in 1991; the total market values of goods and services produced by workers and capital within a nation's borders during a given period (usually 1 year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reduced inventories negatively effect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businesses are the two people 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y have in comm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ey help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048120" y="1981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56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of the following tasks would be included in each of the phases abo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2080" y="3124080"/>
            <a:ext cx="304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risk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he pilot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tain status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e project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47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720" y="3352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4720" y="3657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720" y="3886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72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5080" y="4495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5080" y="48006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436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720" y="533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36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 Phases does she consider the most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2 Listening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590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ting and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1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wo questions should project managers ask at the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the project feasible? Will it add val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114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tasks above that she men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- prepare project overview, 9 – allocate resources, 3-forecast costs, 2-evaluate risk factor, 4-select the proj. team, 5-deliver the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0T21:58:11Z</dcterms:modified>
  <cp:revision>12</cp:revision>
  <dc:subject/>
  <dc:title>Slide 1</dc:title>
</cp:coreProperties>
</file>