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E68-5C8D-40E1-BBFA-B648D350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51F-3669-44E5-90D7-332ED5AE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E00-39AF-450D-A3C5-53DBAB49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69D-53AC-421C-BE86-88A83EEC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645-F176-4AF2-ADAC-EE9B3B30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359-3F05-42DA-8561-97DA1C50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B87-59FF-447C-A088-DB5976D4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E17-4A56-4180-A820-BC730EA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E7F-C718-42B1-A715-66D5B9CC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329-DF58-4C6E-BEF5-C07D2273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47C-429F-4DE6-A7FA-C913AD7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71D-AF45-4E6F-BF8A-8A269D8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A63A-8CDF-4010-9492-F509F2AFB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spero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characterized by financial success or good fortune; flourishing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financial suc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igh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dition, state, or situation, esp. an unfavorable or unfortunate on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e of being that is usually characterized by unfavorable condi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lanche: dictionary.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overwhelm with an extremely large amount of anything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suddenly overwhelmed with some thing (such as snow) or event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log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serve or accumulation, as of stock, work, or business: a backlog of business orders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 that is left undone due to a state of affairs where there is more work than manpower available to do th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a 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cause a person to take heed; make an impres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art clearing a backlo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 Inventories off by most in 17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wholesalers want to cut back inventories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is mean for manufactur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ventory tu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measuring Inventory turns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5000" y="4800600"/>
            <a:ext cx="60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he measure of an economy adopted by the United States in 1991; the total market values of goods and services produced by workers and capital within a nation's borders during a given period (usually 1 year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609588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reduced inventories negatively effect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businesses are the two people 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514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y have in comm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ey help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048120" y="1981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560" y="1981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43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of the following tasks would be included in each of the phases abo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2080" y="3124080"/>
            <a:ext cx="304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the risk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the pilot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tain status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te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e project 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47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720" y="3352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4720" y="3657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720" y="3886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720" y="419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5080" y="4495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5080" y="48006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436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720" y="5334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4360" y="5638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 Phases does she consider the most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2 Listening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590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ting and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124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wo questions should project managers ask at the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the project feasible? Will it add valu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114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tasks above that she men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419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- prepare project overview, 9 – allocate resources, 3-forecast costs, 2-evaluate risk factor, 4-select the proj. team, 5-deliver the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0T21:58:11Z</dcterms:modified>
  <cp:revision>12</cp:revision>
  <dc:subject/>
  <dc:title>Slide 1</dc:title>
</cp:coreProperties>
</file>