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AC18-BBA9-4CDE-8E68-23A7BE4A4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F376-FE55-496B-B9EE-3FBCEBCC9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AE51-A3DA-4AC5-89E7-E7058D137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9DCB-B01D-4311-8E56-2616B6021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4823-E647-4828-9883-E41B8B3BE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7EBC-AC90-4270-B7F7-B0DA019D2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2B96-8532-4637-8116-BDC3E261B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CEA9-5EE0-41E8-A727-0414E8B69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673E-98ED-4D37-9FD1-533805043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912B-C57F-4F1F-BB64-580CF990D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C4F8-A47E-4194-AFC4-013B17997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EC9F-D430-4D5B-81B9-6287E9A07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E73E3-5F1F-4DD2-B961-6753B024DF3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52280" y="228600"/>
            <a:ext cx="7086600" cy="4902120"/>
            <a:chOff x="152280" y="228600"/>
            <a:chExt cx="7086600" cy="490212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152280" y="22860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2666880" y="99036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"/>
          <p:cNvSpPr/>
          <p:nvPr/>
        </p:nvSpPr>
        <p:spPr>
          <a:xfrm>
            <a:off x="2971800" y="21366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vanced Business Engli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71800" y="350532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ohn Silberste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971800" y="29718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oup Y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"/>
          <p:cNvSpPr/>
          <p:nvPr/>
        </p:nvSpPr>
        <p:spPr>
          <a:xfrm>
            <a:off x="2971800" y="1981080"/>
            <a:ext cx="61722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 Word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imulus: dictionary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mething that incites to action or exertion or quickens action, feeling, thought, etc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hn’s Definition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 action or thing that promotes increased activit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ill: dictionary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form or draft of a proposed statute presented to a legislature, but not yet enacted or passed and made law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hn’s Definition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 idea introduced to a legislative body (Congress, Parliament, etc.) for consideration as a new law or other new legisl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aft: dictionary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first or preliminary form of any writing, subject to revision, copying, etc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hn’s definition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written proposal of legislation which is sent to a legistlative body for consideration as a new law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23048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view of Wednesday’s Cl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"/>
          <p:cNvSpPr/>
          <p:nvPr/>
        </p:nvSpPr>
        <p:spPr>
          <a:xfrm>
            <a:off x="2971800" y="1981080"/>
            <a:ext cx="61722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 Word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p: dictionary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undermine; weaken or destroy insidiously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hn’s definition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weaken and idea, person or thing by draining vital componen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cedent: dictionary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y act, decision, or case that serves as a guide or justification for subsequent situations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hn’s definition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legal judgement that acts as a guideline for future decis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wl: dictionary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rove or go about stealthily, as in search of prey, something to steal, etc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hn’s definition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 act of stalking your prey in a stealthy manner so as not to be seen or heard until you are ready to strik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971800" y="123048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view of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dnesda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’s Cl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"/>
          <p:cNvSpPr/>
          <p:nvPr/>
        </p:nvSpPr>
        <p:spPr>
          <a:xfrm>
            <a:off x="2971800" y="1447920"/>
            <a:ext cx="6172200" cy="47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 Word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glomerate: dictionary.com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corporation consisting of a number of subsidiary companies or divisions in a variety of unrelated industries, usually as a result of merger or acquisition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alter: dictionary.com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 hesitate or waver in action, purpose, intent, etc.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ohn’s definition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to pause in an action or process due to a sudden and unexpected environmental chang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eaping: dictionary.com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 move or act quickly or suddenly.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ohn’s definition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 move in a direction quickly, perhaps bypassing certain step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ibernate: dictionary.com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 spend the winter in close quarters in a dormant condition, as bears and certain other animals.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ohn’s definition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ime spent inactively due to lack of strategic vision or ability to react to changing environmental factor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971800" y="9907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view of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dnesda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’s Cl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63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3048120" y="19810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Small State with a big probl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048120" y="121932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rrent Ev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048120" y="23623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hode Island is a _____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48120" y="27432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ere is Rhode Island locate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48120" y="32004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percentage of the Rhode Island workforce is without a job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48120" y="38862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‘Rust Belt?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48120" y="42670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he article, what two places are currently hirin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11840" y="4800600"/>
            <a:ext cx="602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would the backlog of claims delay benefit payment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74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" name=""/>
          <p:cNvSpPr/>
          <p:nvPr/>
        </p:nvSpPr>
        <p:spPr>
          <a:xfrm>
            <a:off x="3048120" y="198108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an Woolley, CEO of Xsellnet, a Management solutions provider for mobile systems, is making a speech. We will listen to the speech and then place the events in order they occurr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8120" y="121932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stening Exerc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48120" y="3200400"/>
            <a:ext cx="6095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n the “Technology Company of the Year Award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s taken over by Wireless Lt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ed trading independent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ok a difficult decis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nt through a difficult financial perio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rrowed money from a ban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perienced a difficult period of integr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2578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tense does she use when talking about ‘the last few year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tense does she use when talking about 2002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tense does she use when talking about the allian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2848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are four reasons Ms. Wooley gives for the failed merg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0:23:48Z</dcterms:created>
  <dc:creator>johnsilb</dc:creator>
  <dc:description/>
  <dc:language>en-US</dc:language>
  <cp:lastModifiedBy>johnsilb</cp:lastModifiedBy>
  <dcterms:modified xsi:type="dcterms:W3CDTF">2009-02-09T16:29:53Z</dcterms:modified>
  <cp:revision>11</cp:revision>
  <dc:subject/>
  <dc:title>Slide 1</dc:title>
</cp:coreProperties>
</file>