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E9A-D286-445F-A148-34E67B42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887-82D9-4312-9BB4-986193CD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86A-F6C8-4DDA-A1C4-F8C2CBC0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4B2-1C34-41C0-8006-A54735A7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B63-8342-4287-A3B7-BFB17ECE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884-1424-49FD-BCF5-B991961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A9F-01EC-4797-A721-822B063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F06-0814-4CE7-92C7-08A8B2BA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475-4C9F-4D81-8C36-E7A5E21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347-F417-44D8-881D-7E4BA00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96D-FEE8-49FF-BE75-021CE39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174-1D5B-4F8F-A4BB-24EE24B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6C3-17FF-45A2-8B7C-9B0EA730FC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mul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that incites to action or exertion or quickens action, feeling, thought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ion or thing that promotes increased acti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 or draft of a proposed statute presented to a legislature, but not yet enacted or passed and made law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dea introduced to a legislative body (Congress, Parliament, etc.) for consideration as a new law or other new legis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rst or preliminary form of any writing, subject to revision, copying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ritten proposal of legislation which is sent to a legistlative body for consideration as a new la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p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mine; weaken or destroy insidiousl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eaken and idea, person or thing by draining vital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ct, decision, or case that serves as a guide or justification for subsequent situatio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egal judgement that acts as a guideline for future deci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w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ove or go about stealthily, as in search of prey, something to steal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 of stalking your prey in a stealthy manner so as not to be seen or heard until you are ready to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71800" y="1447920"/>
            <a:ext cx="61722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glomer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orporation consisting of a number of subsidiary companies or divisions in a variety of unrelated industries, usually as a result of merger or acquisi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ter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hesitate or waver in action, purpose, intent, et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ause in an action or process due to a sudden and unexpected environmental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ping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or act quickly or suddenly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in a direction quickly, perhaps bypassing certain ste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bern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spend the winter in close quarters in a dormant condition, as bears and certain other animals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pent inactively due to lack of strategic vision or ability to react to changing environmental fact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all State with a big probl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hode Island is a 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Rhode Island loca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ercentage of the Rhode Island workforce is without a job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‘Rust Belt?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article, what two places are currently hir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840" y="480060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the backlog of claims delay benefit pay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an Woolley, CEO of Xsellnet, a Management solutions provider for mobile systems, is making a speech. We will listen to the speech and then place the events in order they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00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n the “Technology Company of the Year Awar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taken over by Wireless L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ed trading independ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a difficult de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t through a difficult financ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rowed money from a b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enced a difficult period of integ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‘the last few ye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200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the alli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84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four reasons Ms. Wooley gives for the failed merg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9T16:29:53Z</dcterms:modified>
  <cp:revision>11</cp:revision>
  <dc:subject/>
  <dc:title>Slide 1</dc:title>
</cp:coreProperties>
</file>