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FD63-3C73-4673-8B7E-1133F9337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ther words could be used to replace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3EBF-4A95-444D-A3CF-A874D92B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4718-1A5F-4ABC-878C-7E4D343F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3962-6D48-405D-9988-9F429500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7830-5C48-450D-9ADA-68C85D7F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8021-6F3D-48FE-8835-4925EC90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B439-76B1-4DD4-BE59-4A9B523E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9D9C-0B78-469C-A1E3-E8CA667E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D57E-3BEC-49BD-9EDB-FF26CC7A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2D5E-EBE0-425F-A2F4-7AC452DA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9216-C9C8-498F-A9DB-DEBDEE10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276F-D07E-4964-9675-DBAD4F40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FE3-C93D-457C-A50A-8F778B76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F331-CC87-4C42-BD15-75453D2FB6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2971800" y="205740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oom T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onday May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:30 to 19: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 Date and 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2971800" y="144792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h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ast off or let fall (leaves, hair, feathers, skin, shell, etc.) by natural proces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mbrac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ake or clasp in the arms; press to the bosom; hug; to take or receive gladly or eagerly; accept willingly: to embrace an ide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ugh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st tense of To Seek: to try to find or discover by searching or questio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rac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ascertain the successive stages in the development or progress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hina takes on the global car busine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57480" y="281952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Rio Tin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7480" y="342900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could the current economic crisis aid China’s entry into the global car busines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57480" y="411480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you feel about China buying companies such as Opel or Citro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7480" y="472428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uld Governments of the US or the EU block China from purchasing these asset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"/>
          <p:cNvSpPr/>
          <p:nvPr/>
        </p:nvSpPr>
        <p:spPr>
          <a:xfrm>
            <a:off x="3048120" y="12952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efine the Following phases of project manage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9907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1600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Initiation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4876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Close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Planning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3733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Execution and Control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19051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ject is outlined, the scope is determined and the feasibility is determin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30481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hase where resources are assigned to the project and the project schedule is design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4038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process is designed or an object is assembled/built progress is monitored to ensure it stays on time and on budg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510552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roject is complete, implementation and use of a new process begins, a building is occupied or a piece of equipment is being used.  Review of the project to determine inefficiencies in the process and monitoring of use for improvem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oo Many Wor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Types of Err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57480" y="228600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orrect use of Preposi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57480" y="289548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yle Errors/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4-22T14:41:15Z</dcterms:modified>
  <cp:revision>60</cp:revision>
  <dc:subject/>
  <dc:title>Slide 1</dc:title>
</cp:coreProperties>
</file>