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AF4-4F70-4EC9-83BB-867CE407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FE1-9615-43C3-A822-0A651F9A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347-95EA-4977-8ADD-8AAF50FD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3C9-DF0C-401E-B58D-F836CD90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498-D05E-4167-B1AA-5275F416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88F-372D-4F32-957F-0D75C3CA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F1B-0FC3-400C-A2F8-5FC9F6BE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8C4-46E3-4448-A0A4-065B007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F4D-D05E-47D3-8F75-F1F0061F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EFE-D059-48D2-8796-D6BD04AD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F26-3F1F-47F3-A80C-024AEC52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2BB-DEF8-4A37-BD30-AB21AE4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67B-5DDE-4DE2-9A02-7B0928BB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0DC6-C330-4EA3-A556-14CADE49D0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ll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lt the motion or progress of; bring to a standstill; To cause (a motor or motor vehicle) accidentally to stop runn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movement, esp. in stepping, walking, etc.: to walk at a brisk pace of five miles an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sce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ncing, or in process of development; beginning to exist or to grow; coming into be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ull bru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force or impact, as of an attack or b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ug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etermine the exact dimensions, capacity, quantity, or force of; measure; to appraise, estimate, or ju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wind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come smaller and smaller; shrink; waste away: His vast fortune has dwindled a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ckluste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ing liveliness, vitality, spirit, or enthusiasm: a lackluster perform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as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ing to cause nausea; nausea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eaguer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rass; beset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e are beleaguered by problem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flow or fall by drops, or in a small, gentle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e UAW and Chrysler: a Lose-Lose Sit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the UAW have no alternative than to accept job and/or wage cu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UAW waiting to finish the Chrysler negotiations before talking with G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situation cause a split between current Chrysler workers and retire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the assets of Chrysler be worth more if the company were broken up in bankruptc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029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line of project goals and parameters, determine project feasibility, approval to move into planning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scheduling, assignment of resources (Human Resources and Materi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sign of project processes and/or implementation of project plan in construction of  final product. On going evaluation of project progr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 is outlined, the scope of the project is determined and the feasibility of the project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, whether the project is an object being built or a process being designed, is assembled and the progress is monito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0T08:55:39Z</dcterms:modified>
  <cp:revision>55</cp:revision>
  <dc:subject/>
  <dc:title>Slide 1</dc:title>
</cp:coreProperties>
</file>