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1ADC-767C-4804-9841-06152A823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ther words could be used to replace th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ther words could be used to replace th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A184-312D-4DE8-BAEC-CE8EE87A3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6798-DBCC-4CB8-97A8-1214B421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6521-B7CD-4B40-AA1A-82AF6C49B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4644-D17A-4818-951A-516CD4D84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E9E4-53EF-42F9-A779-C0A14EDA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9D97-7CA6-46AC-9EE5-C17D191D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F8D5-0E3B-4339-BCF0-DA4576E1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A5C1-6B96-4257-AD2C-52E62453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D8D7-5FA7-4FCE-B7E6-45833B07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6064-93BB-4C34-B01F-99CB9A41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F7B8-736A-4B41-9BDB-29F0976E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32F3-28E6-4306-9D4E-CD601AB2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AC69-5293-4BA2-8175-895357ED08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2971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Y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45324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"/>
          <p:cNvSpPr/>
          <p:nvPr/>
        </p:nvSpPr>
        <p:spPr>
          <a:xfrm>
            <a:off x="2971800" y="1447920"/>
            <a:ext cx="6172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talled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halt the motion or progress of; bring to a standstill; To cause (a motor or motor vehicle) accidentally to stop running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ac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rate of movement, esp. in stepping, walking, etc.: to walk at a brisk pace of five miles an hou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ascen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encing, or in process of development; beginning to exist or to grow; coming into be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ull brun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in force or impact, as of an attack or blow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Gaug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determine the exact dimensions, capacity, quantity, or force of; measure; to appraise, estimate, or jud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2971800" y="1447920"/>
            <a:ext cx="6172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windling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become smaller and smaller; shrink; waste away: His vast fortune has dwindled awa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Lackluster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cking liveliness, vitality, spirit, or enthusiasm: a lackluster performanc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Queasy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ding to cause nausea; nauseating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eleaguered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harass; beset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e are beleaguered by problem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rickling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flow or fall by drops, or in a small, gentle str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"/>
          <p:cNvSpPr/>
          <p:nvPr/>
        </p:nvSpPr>
        <p:spPr>
          <a:xfrm>
            <a:off x="3048120" y="17524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he UAW and Chrysler: a Lose-Lose Situa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57480" y="2819520"/>
            <a:ext cx="60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would the UAW have no alternative than to accept job and/or wage cut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57480" y="3429000"/>
            <a:ext cx="60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is the UAW waiting to finish the Chrysler negotiations before talking with G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57480" y="4114800"/>
            <a:ext cx="60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could the current situation cause a split between current Chrysler workers and retire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57480" y="4724280"/>
            <a:ext cx="60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might the assets of Chrysler be worth more if the company were broken up in bankruptc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"/>
          <p:cNvSpPr/>
          <p:nvPr/>
        </p:nvSpPr>
        <p:spPr>
          <a:xfrm>
            <a:off x="3048120" y="12952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Define the Following phases of project manage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9907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8120" y="1600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Initiation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029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Close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Planning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37339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Execution and Control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190512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utline of project goals and parameters, determine project feasibility, approval to move into planning ph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30481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oject scheduling, assignment of resources (Human Resources and Materi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4038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esign of project processes and/or implementation of project plan in construction of  final product. On going evaluation of project progr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/>
          <p:cNvSpPr/>
          <p:nvPr/>
        </p:nvSpPr>
        <p:spPr>
          <a:xfrm>
            <a:off x="3048120" y="12952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Define the Following phases of project manage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8120" y="9907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1600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Initiation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8120" y="48769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Close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Planning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7339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Execution and Control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190512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phase where the project is outlined, the scope of the project is determined and the feasibility of the project is determin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30481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phase where resources are assigned to the project and the project schedule is design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4038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phase where the project, whether the project is an object being built or a process being designed, is assembled and the progress is monitor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5105520"/>
            <a:ext cx="609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project is complete, implementation and use of a new process begins, a building is occupied a piece of equipment is being used.  Review of the project to determine inefficiencies in the process and monitoring of use for improvem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4-20T08:55:39Z</dcterms:modified>
  <cp:revision>55</cp:revision>
  <dc:subject/>
  <dc:title>Slide 1</dc:title>
</cp:coreProperties>
</file>