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2CDA-D633-46D9-BE3B-78B0B47FC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2DC-C34E-47EF-AFBA-4066640D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9B9-A1E6-4F38-9F3F-2CD040A7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1B7-F6B7-4ADF-BC25-16186080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2C7-711E-4797-84E4-91645973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E01-9383-45FA-810F-C8498CB6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C02-C502-4346-9B59-CEA1C195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418-1AC6-43F0-8F00-E9DFFC56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58B-CB19-41F3-9FF7-6D0B82CE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1D0-4852-4628-8EBE-B508F955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130-4064-4173-8878-122CEAC5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670-EFB8-4E36-B6BB-B84BC54E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E35-0AFC-4449-BBFD-0FF4567F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4D5D-3E7F-402A-9FD3-A8AD417EE7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44792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ab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 for or capable of being thrown away after being used or used up: disposable plastic spoons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disposable cigarette lighte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; free for use; availabl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very disposable vehicle was sen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ar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scend suddenly above the normal or usual lev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jab or poke, as with a pointed object. To goad to action; inci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pik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thing resembling such a nail; an abrupt increase or rise: a chart showing a spike of unusual activity in the stock mar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nt up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ned; restrained; not vented or expressed; curbed: pent-up emotions; pent-up rag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idal Wav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, destructive ocean wave, produced by a seaquake, hurricane, or strong wind; any widespread or powerful movement, opinion, or tendency: a tidal wave of public indign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leash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elease or loose from or as if from a leash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leashed the guard dogs; unleashed his pent-up rage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ar Frui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oduce; yiel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lants bearing frui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pur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that goads, impels, or urges, as to action, speed, or achieve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fligat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terly and shamelessly immoral or dissipated; thoroughly dissolute; recklessly prodigal or extravag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ony, Ericsson: Better Off Alo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8558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the Article and identify 3 Metaphors and rewrite the sentence without using a metaph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given words to complete the Metaph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ke - Sprung - Crash - Slump - Gobbled up - Green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590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umer spending rose 0.2% in February, but that was due to January’s _______________ in disposable inc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3429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he past fifteen years a new middle class has _______________ up in emerging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41148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ast oil price _______________ in the late 1990’s sparked a round of mergers between the big international oil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__________ in oil prices since last summer makes these assets likely target for independent oil companies, which in turn look set to be __________ by the reserve-hungry multinationa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5029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China’s foreign exchange reserves are believed to be held in the ____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3048120" y="1143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ony, Ericsson: Better Off Alo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7480" y="18288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he following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7480" y="25146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it be better if Sony and Ericsson go their separate way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have posted another quarterly loss and there is not much technological rationale for Ericsson to stick with So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7480" y="335268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a ‘divorce’ take some time to work ou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icsson will not want to give up its 50% stake at firesale prices in a deteriorating mar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7480" y="38862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described as ‘a strategic pillar’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48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y and Ericsson both reiterated that the joint venture is ‘a strategic pillar.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swer the following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, up and away (repr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981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are the 3 ‘special problems’ listed that make airport construction projects speci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icky building techniques, interface with transport links and sophisticated electronics to handle passengers and bagg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743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position did Tony Douglas have before being put in charge of the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9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 three years he was in charge of BAA supply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3429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makes this project so unus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A is running the project itself and as much as possible construction is taking place off-s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06T07:24:06Z</dcterms:modified>
  <cp:revision>49</cp:revision>
  <dc:subject/>
  <dc:title>Slide 1</dc:title>
</cp:coreProperties>
</file>