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479-2C58-4A67-83F0-78AC3A86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532-CAD6-4116-9396-03E7C49B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F82-7228-4F14-BE81-EFFFCC4A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61B-B69C-457B-89E0-81598D14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D47-787F-4128-9422-798D770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AB6-6125-483F-BEF5-3E41D9B8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727-EF2E-4756-BF15-AA15D7BA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11A-B810-4768-80E0-51FED81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16B-4471-42DB-A8ED-9E52DF1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98D-6362-4B5C-9D27-5244D16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842-4F30-4DF8-A538-2424EAD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D67-9E77-46C5-A75B-3BACBE0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68A-76B4-4BA8-AF94-78AF1DDA8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7106-02-03-y3.wikispaces.com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1640" y="2136600"/>
            <a:ext cx="39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61400" y="3505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4880" y="29718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14800" y="1981080"/>
            <a:ext cx="464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rse Outl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ith previous courses you have taken, this course will use real life business examples to facilitate English Language learning. Key areas of investigation will be; Alliances, Project Management, Conflict Management, Meetings and Presen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also be working on verb tenses, situation specific collocations and phrases and moda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nt is to use projects and impromptu role-play as well as key areas of investigation as tools to facilitating strengthening of English language skills (spoken, written and reading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9112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K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http://7106-02-03-y3.wikispaces.com/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114800" y="2743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Ask Ques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74320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o Electronics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793960" cy="490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4572000" cy="77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4800" y="27432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rticipate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2T10:33:28Z</dcterms:modified>
  <cp:revision>2</cp:revision>
  <dc:subject/>
  <dc:title>Slide 1</dc:title>
</cp:coreProperties>
</file>