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B7E-6338-463F-8D62-A9962CFF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6EF-8A58-46B0-A049-724C970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E2B-229E-4D88-BF2D-0AB707EB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8B8-E0D7-430F-9688-78E949DA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A3F-BD74-4183-8A5D-8CDC026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CFD-0512-4FDE-9AB5-4D4C4E9C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A20-96EA-46AE-AA3F-5468B68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B01-F01E-47BC-919C-6632F3B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FB0-7253-4CE2-999E-FA435D63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CE4-FF33-40C8-9A8A-61D2D7C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5FF-8C85-42F3-96AB-8783D50F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BA2-4451-49E7-BE1D-E26CE78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940-CDC2-4534-8F81-035192B230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7106-02-03-y3.wikispaces.com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1640" y="213660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61400" y="3505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4880" y="29718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14800" y="19810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rse Outl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with previous courses you have taken, this course will use real life business examples to facilitate English Language learning. Key areas of investigation will be; Alliances, Project Management, Conflict Management, Meetings and 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also be working on verb tenses, situation specific collocations and phrases and moda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nt is to use projects and impromptu role-play as well as key areas of investigation as tools to facilitating strengthening of English language skills (spoken, written and reading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1120" y="33526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K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ttp://7106-02-03-y3.wikispaces.com/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0" y="27432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Ask Ques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o Electronics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27432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rticipate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2T10:33:28Z</dcterms:modified>
  <cp:revision>2</cp:revision>
  <dc:subject/>
  <dc:title>Slide 1</dc:title>
</cp:coreProperties>
</file>