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5CB4-6283-45F3-846F-CDBD4A36C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9886-86F8-43E3-AA07-0032C465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6436-E93F-4425-84BD-F47759BC4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7817-01A6-4467-9923-C28D76AE7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1A77-5889-4EB3-90F7-F256D6F8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F499-CC33-4B9C-9B13-4CE91D33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6F7B-D643-4CED-A38B-BC41E040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F0A3-7B5C-432B-986F-A7CFE2E5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6F56-04A2-4AEE-B0AF-6FF761AF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09E3-681C-49F4-AF0D-F4A92674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FC92-297C-45C2-BB9E-AE742FFE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2761-27DB-414A-AD0D-1604CE2A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D5DA-197B-40F4-A784-0AE6C3F7E3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7106-02-03-y3.wikispaces.com/" TargetMode="Externa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793960" cy="49021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200400" y="1066680"/>
            <a:ext cx="4572000" cy="774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121640" y="2136600"/>
            <a:ext cx="393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61400" y="35053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 Silberste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64880" y="29718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Y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793960" cy="4902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200400" y="1066680"/>
            <a:ext cx="4572000" cy="774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114800" y="1981080"/>
            <a:ext cx="4648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urse Outlin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 with previous courses you have taken, this course will use real life business examples to facilitate English Language learning. Key areas of investigation will be; Alliances, Project Management, Conflict Management, Meetings and Present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also be working on verb tenses, situation specific collocations and phrases and modal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ntent is to use projects and impromptu role-play as well as key areas of investigation as tools to facilitating strengthening of English language skills (spoken, written and reading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793960" cy="4902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00400" y="1066680"/>
            <a:ext cx="4572000" cy="774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191120" y="3352680"/>
            <a:ext cx="472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K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ffff"/>
                </a:solidFill>
                <a:uFillTx/>
                <a:latin typeface="Arial"/>
                <a:hlinkClick r:id="rId3"/>
              </a:rPr>
              <a:t>http://7106-02-03-y3.wikispaces.com/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793960" cy="4902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200400" y="1066680"/>
            <a:ext cx="4572000" cy="774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114800" y="2743200"/>
            <a:ext cx="47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RULE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793960" cy="4902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200400" y="1066680"/>
            <a:ext cx="4572000" cy="774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114800" y="2743200"/>
            <a:ext cx="4724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Ask Questio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793960" cy="4902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00400" y="1066680"/>
            <a:ext cx="4572000" cy="774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114800" y="2743200"/>
            <a:ext cx="4724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No Electronics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793960" cy="4902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00400" y="1066680"/>
            <a:ext cx="4572000" cy="774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114800" y="2743200"/>
            <a:ext cx="4724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Participate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2-02T10:33:28Z</dcterms:modified>
  <cp:revision>2</cp:revision>
  <dc:subject/>
  <dc:title>Slide 1</dc:title>
</cp:coreProperties>
</file>