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0599-E5ED-4DF2-977A-9F3DF4554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9A53-4FF8-4DFD-8412-15543F37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F90F-88B7-4990-B1ED-4983C1584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EAE6-B652-44F2-909B-432E6FC98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BF33-191A-4BF6-A371-BABB5D5A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9BF0-30F3-49B7-932D-5A2FDF6A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B4E5-C5B8-4FBD-86C5-73300E72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5618-5110-4F94-BFE7-DF35D6E6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112B-0FAA-407D-BABF-A5D07729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E86E-1B62-4E18-B394-46F1CC86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8EF0-E7AC-4CCA-B97E-3FF8FCB2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A7EF-1B0D-423A-A36D-91582C2C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54AA-AEDF-424E-A01F-4A2D40C21C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7106-02-03-y3.wikispaces.com/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793960" cy="49021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200400" y="1066680"/>
            <a:ext cx="4572000" cy="774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121640" y="2136600"/>
            <a:ext cx="393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61400" y="35053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Silbers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64880" y="29718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793960" cy="4902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00400" y="1066680"/>
            <a:ext cx="4572000" cy="774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114800" y="1981080"/>
            <a:ext cx="4648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rse Outlin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 with previous courses you have taken, this course will use real life business examples to facilitate English Language learning. Key areas of investigation will be; Alliances, Project Management, Conflict Management, Meetings and Present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also be working on verb tenses, situation specific collocations and phrases and modal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ntent is to use projects and impromptu role-play as well as key areas of investigation as tools to facilitating strengthening of English language skills (spoken, written and reading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793960" cy="4902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00400" y="1066680"/>
            <a:ext cx="4572000" cy="774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91120" y="3352680"/>
            <a:ext cx="472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K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ffff"/>
                </a:solidFill>
                <a:uFillTx/>
                <a:latin typeface="Arial"/>
                <a:hlinkClick r:id="rId3"/>
              </a:rPr>
              <a:t>http://7106-02-03-y3.wikispaces.com/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793960" cy="4902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00400" y="1066680"/>
            <a:ext cx="4572000" cy="774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114800" y="2743200"/>
            <a:ext cx="47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793960" cy="4902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00400" y="1066680"/>
            <a:ext cx="4572000" cy="774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114800" y="2743200"/>
            <a:ext cx="4724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Ask Questio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793960" cy="4902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00400" y="1066680"/>
            <a:ext cx="4572000" cy="774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114800" y="2743200"/>
            <a:ext cx="4724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No Electronics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793960" cy="4902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00400" y="1066680"/>
            <a:ext cx="4572000" cy="774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114800" y="2743200"/>
            <a:ext cx="472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Participate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2-02T10:33:28Z</dcterms:modified>
  <cp:revision>2</cp:revision>
  <dc:subject/>
  <dc:title>Slide 1</dc:title>
</cp:coreProperties>
</file>