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6C2-2768-4DD5-BDF6-D4EBD9EA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978-5301-4516-9F4E-A46552BD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CEC-CB1B-44BC-B288-1D6B3149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D69-6654-418B-96E1-0A74AB14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B95-9B3A-465B-ADB4-4D80BEC1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52F-A822-4C37-8F28-BE8922C3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C8D-0D01-43D9-B24C-2DA6DCE3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E65-5B1C-43CB-AC55-C5FAD6C9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583-0378-43FB-A6A9-1FFCE4A6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393-C3D4-44A6-95DF-AA488FFE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E83-98CB-4F32-AE22-3A391056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363-6597-4DFB-938B-F4B5DF7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36DC-307D-4399-BA83-77BB56628A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 Pre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e 10 vocabulary words and complete the sent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2971800" y="19810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xplain how these terms can cause conflict in an organiz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cism, Resources, Personalities, Unclearly defined roles, a subordinate becoming a pe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Word usage/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971800" y="144792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– Acquisitions – Alliances and Joint Ventu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be able to explain each form of business combi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124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s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on of two or more commercial interests or corporation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962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urchase of another company. Acquisitions may be friendly or hos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876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lianc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rmal agreement between two or more companies to cooperate for specific purpos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43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oint Venture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business enterprise in which two or more companies enter a partnership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ad an article and identify metaphors and rewrite the metaphors without using a metapho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981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ter the correct form of the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2971800" y="1981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ssign tasks to phases of Project Mana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portance of Project Management Ph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ou will be scored 50% on content and 50% on gramm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2971800" y="198108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ey players in a projec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onsor, Stakeholder, Project Team, Project Manager, End U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2971800" y="19810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oosing the correct verb to complete the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7T06:32:10Z</dcterms:modified>
  <cp:revision>62</cp:revision>
  <dc:subject/>
  <dc:title>Slide 1</dc:title>
</cp:coreProperties>
</file>