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2DF-145A-46F3-901B-C77EACCA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D22-AC03-4019-AFA9-5D95D4F2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90B-DB45-4CB6-BE3F-63AE03C4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FDE-A03D-4626-A93A-D1F5371F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BC1-B97A-4E90-8535-97BF489B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210-9893-4C89-B2D0-70F5F4E3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D3C-0311-47C1-A438-D32CCA8E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03F-467F-48C8-9D66-AA565F5B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043-CFB6-4F54-A9AE-D30A5229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862-9DC0-42FD-B237-DCD0E331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5B8-1212-4FEF-B63D-4FE61C66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86C-DE0B-4E4C-BE12-03D1D3D7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C5B7-995D-454F-88D6-09FC006DD6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ose 10 vocabulary words and complete the sent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Word usage/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2971800" y="19810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xplain how these terms can cause conflict in an organiz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cism, Resources, Personalities, Unclearly defined roles, a subordinate becoming a pe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Word usage/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2971800" y="144792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s – Acquisitions – Alliances and Joint Ventu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be able to explain each form of business combin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s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on of two or more commercial interests or corporation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962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urchase of another company. Acquisitions may be friendly or hos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876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liance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ormal agreement between two or more companies to cooperate for specific purpos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43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oint Venture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business enterprise in which two or more companies enter a partnership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ad an article and identify metaphors and rewrite the metaphors without using a metapho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971800" y="1981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nter the correct form of the verb to complete the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2971800" y="19810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hases of project manag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2971800" y="1981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ssign tasks to phases of Project Manag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mportance of Project Management Ph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ey players in a projec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ponsor, Stakeholder, Project Team, Project Manager, End U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2971800" y="1981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osing the correct verb to complete the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7T06:32:10Z</dcterms:modified>
  <cp:revision>62</cp:revision>
  <dc:subject/>
  <dc:title>Slide 1</dc:title>
</cp:coreProperties>
</file>