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5A7-33F4-48CE-A150-2BA9588C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325-2DEF-4134-B4FB-143DB5FE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7DA-8AB9-40F6-A039-5FBD9DD0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9D1-175A-4DB3-A34A-7BCB7079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22D-4E9A-4344-BDFF-5D3435DB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D3D-2A0C-4FC1-BCD8-75E4FACC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26E-1D43-4A50-AA52-AEF2C177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230-7CFB-41B2-910C-AACB7AB6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161-304C-4CFB-9B79-3332F4D4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78E-F9A8-4F7C-8CB4-35303548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94A-4AC1-4574-BC09-117E7565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268-B818-4BB2-9BF3-124569AB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63AD-C7F6-4F88-ACFA-C11A2ECA00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e 10 vocabulary words and complete the sent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2971800" y="19810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xplain how these terms can cause conflict in an organ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cism, Resources, Personalities, Unclearly defined roles, a subordinate becoming a pe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971800" y="144792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– Acquisitions – Alliances and Joint Ventu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be able to explain each form of business combi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on of two or more commercial interests or corporation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962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urchase of another company. Acquisitions may be friendly or hos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876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lianc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ormal agreement between two or more companies to cooperate for specific purpos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43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oint Ventur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business enterprise in which two or more companies enter a partnership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ad an article and identify metaphors and rewrite the metaphors without using a metaph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981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nter the correct form of the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2971800" y="1981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ssign tasks to 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mportance of Project Management Ph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ey players in a projec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onsor, Stakeholder, Project Team, Project Manager, End U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ing the correct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7T06:32:10Z</dcterms:modified>
  <cp:revision>62</cp:revision>
  <dc:subject/>
  <dc:title>Slide 1</dc:title>
</cp:coreProperties>
</file>