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A988-95ED-4920-A558-00EDFBE0C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694A-0193-4694-8CD8-1A05FACD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F767-0232-4B99-9707-9D6CB5D70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AAE5-C591-4A9F-B238-917060B45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0EC0-88EE-40BC-BEC2-51CEC761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559E-3B78-4908-983A-A58E8A4B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C7DF-7A13-4C3E-A266-30A46156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8A7B-EF5E-46D8-A3C6-E0C2C187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D88F-23AC-4290-924B-D6ACB6BF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8DDD-EB8F-477F-BFD7-AA5796B5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C762-BA42-4BD3-AF9B-766059A1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6E51-F2E4-48A2-8D77-D36C8DB7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DEE5-E1C2-4E83-8182-FC984FB9CB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4532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 Pre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"/>
          <p:cNvSpPr/>
          <p:nvPr/>
        </p:nvSpPr>
        <p:spPr>
          <a:xfrm>
            <a:off x="2971800" y="1981080"/>
            <a:ext cx="617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hoose 10 vocabulary words and complete the sentenc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You will be scored 50% on Word usage/content and 50% on gramm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"/>
          <p:cNvSpPr/>
          <p:nvPr/>
        </p:nvSpPr>
        <p:spPr>
          <a:xfrm>
            <a:off x="2971800" y="1981080"/>
            <a:ext cx="61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xplain how these terms can cause conflict in an organiz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Racism, Resources, Personalities, Unclearly defined roles, a subordinate becoming a pe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You will be scored 50% on Word usage/content and 50% on gramm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2971800" y="1447920"/>
            <a:ext cx="617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ergers – Acquisitions – Alliances and Joint Ventur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should be able to explain each form of business combin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will be scored 50% on content and 50% on gramm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3124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ergers 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union of two or more commercial interests or corporation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39625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cquisition –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purchase of another company. Acquisitions may be friendly or hosti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4876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lliance 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formal agreement between two or more companies to cooperate for specific purpose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59436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Joint Venture 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business enterprise in which two or more companies enter a partnership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/>
          <p:cNvSpPr/>
          <p:nvPr/>
        </p:nvSpPr>
        <p:spPr>
          <a:xfrm>
            <a:off x="2971800" y="1981080"/>
            <a:ext cx="617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ad an article and identify metaphors and rewrite the metaphors without using a metapho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You will be scored 50% on content and 50% on Gramm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"/>
          <p:cNvSpPr/>
          <p:nvPr/>
        </p:nvSpPr>
        <p:spPr>
          <a:xfrm>
            <a:off x="2971800" y="1981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nter the correct form of the verb to complete the sent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"/>
          <p:cNvSpPr/>
          <p:nvPr/>
        </p:nvSpPr>
        <p:spPr>
          <a:xfrm>
            <a:off x="2971800" y="198108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hases of project managem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You will be scored 50% on content and 50% on gramm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"/>
          <p:cNvSpPr/>
          <p:nvPr/>
        </p:nvSpPr>
        <p:spPr>
          <a:xfrm>
            <a:off x="2971800" y="19810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ssign tasks to phases of Project Managem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"/>
          <p:cNvSpPr/>
          <p:nvPr/>
        </p:nvSpPr>
        <p:spPr>
          <a:xfrm>
            <a:off x="2971800" y="1981080"/>
            <a:ext cx="617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mportance of Project Management Ph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You will be scored 50% on content and 50% on gramm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" name=""/>
          <p:cNvSpPr/>
          <p:nvPr/>
        </p:nvSpPr>
        <p:spPr>
          <a:xfrm>
            <a:off x="2971800" y="1981080"/>
            <a:ext cx="617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Key players in a project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ponsor, Stakeholder, Project Team, Project Manager, End Us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/>
          <p:cNvSpPr/>
          <p:nvPr/>
        </p:nvSpPr>
        <p:spPr>
          <a:xfrm>
            <a:off x="2971800" y="19810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hoosing the correct verb to complete the sent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4-27T06:32:10Z</dcterms:modified>
  <cp:revision>62</cp:revision>
  <dc:subject/>
  <dc:title>Slide 1</dc:title>
</cp:coreProperties>
</file>