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4C6-A7E1-483D-A09A-3164AA7C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D919-30C5-4EA9-9559-BA66C90D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F595-8456-4A8C-B081-0244B97E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0DD-5167-4905-9AB9-DCA39303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97BB-0E81-4E68-85AA-26825E98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FBA5-EDD6-4525-B7A2-3BE8176B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0E2-A0F1-4360-8A38-50BBDC3C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ECC0-88D5-4678-A5C7-9A0108B5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146-1A9A-4991-AA47-30AD0C4E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ADC-4E58-45F6-B399-0F4A69A2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EE1-F738-459D-8A80-3340FF69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BFC-8B6A-4C9B-B3CD-7DB3EFD0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25ED-66F4-4BD2-BBD9-49F5006EF0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 Pr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oose 10 vocabulary words and complete the senten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Word usage/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2971800" y="198108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xplain how these terms can cause conflict in an organiz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cism, Resources, Personalities, Unclearly defined roles, a subordinate becoming a pe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Word usage/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2971800" y="144792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gers – Acquisitions – Alliances and Joint Ventu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should be able to explain each form of business combin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gers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union of two or more commercial interests or corporation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962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sition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urchase of another company. Acquisitions may be friendly or hosti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876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lliance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formal agreement between two or more companies to cooperate for specific purpos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43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Joint Venture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business enterprise in which two or more companies enter a partnership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ad an article and identify metaphors and rewrite the metaphors without using a metapho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2971800" y="1981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nter the correct form of the verb to complete the sent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2971800" y="19810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hases of project manage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2971800" y="19810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ssign tasks to phases of Project Manage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mportance of Project Management Ph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ey players in a projec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ponsor, Stakeholder, Project Team, Project Manager, End U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2971800" y="19810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oosing the correct verb to complete the sent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27T06:32:10Z</dcterms:modified>
  <cp:revision>62</cp:revision>
  <dc:subject/>
  <dc:title>Slide 1</dc:title>
</cp:coreProperties>
</file>